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A943-BB6C-4417-A2C8-87B45FE85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4EF8-417E-44FC-B12F-C7C4BAA0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AA72-8C22-451B-BF3B-B3E5DB25A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5135-82A3-4DF2-A9B4-C54B96E3B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28BA-2FF1-4DA9-8DF4-59046C42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45FC-485C-458F-BDA6-364B8A1F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DE04-F66D-42B1-BDDF-98692784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5D33-71D8-4A3E-8FEB-494D994C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BA06-168E-4954-B6B4-EE99DCFB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41A9-2865-4EF3-B781-67AF1603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4978-D28C-4F82-96D5-007056D1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942E-524D-4B6F-B8E1-9CE04C19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EF40-DB7B-43E8-9909-A4AF5585C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262160" y="2924280"/>
            <a:ext cx="3997080" cy="2422440"/>
            <a:chOff x="1262160" y="2924280"/>
            <a:chExt cx="3997080" cy="2422440"/>
          </a:xfrm>
        </p:grpSpPr>
        <p:sp>
          <p:nvSpPr>
            <p:cNvPr id="42" name=""/>
            <p:cNvSpPr/>
            <p:nvPr/>
          </p:nvSpPr>
          <p:spPr>
            <a:xfrm>
              <a:off x="1262160" y="2924280"/>
              <a:ext cx="3997080" cy="242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838160" y="4206960"/>
              <a:ext cx="774720" cy="2379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" name=""/>
            <p:cNvCxnSpPr>
              <a:stCxn id="43" idx="3"/>
              <a:endCxn id="45" idx="1"/>
            </p:cNvCxnSpPr>
            <p:nvPr/>
          </p:nvCxnSpPr>
          <p:spPr>
            <a:xfrm>
              <a:off x="2612880" y="4325760"/>
              <a:ext cx="273600" cy="11520"/>
            </a:xfrm>
            <a:prstGeom prst="curvedConnector3">
              <a:avLst>
                <a:gd name="adj1" fmla="val 28458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46" name=""/>
            <p:cNvSpPr/>
            <p:nvPr/>
          </p:nvSpPr>
          <p:spPr>
            <a:xfrm>
              <a:off x="2467080" y="3703680"/>
              <a:ext cx="689040" cy="20484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bdbdb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90960" y="3468600"/>
              <a:ext cx="909360" cy="200520"/>
              <a:chOff x="3990960" y="3468600"/>
              <a:chExt cx="909360" cy="200520"/>
            </a:xfrm>
          </p:grpSpPr>
          <p:sp>
            <p:nvSpPr>
              <p:cNvPr id="48" name=""/>
              <p:cNvSpPr/>
              <p:nvPr/>
            </p:nvSpPr>
            <p:spPr>
              <a:xfrm>
                <a:off x="3990960" y="3492360"/>
                <a:ext cx="279360" cy="15264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24240" y="3468600"/>
                <a:ext cx="676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alculati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3995640" y="3798720"/>
              <a:ext cx="911160" cy="200520"/>
              <a:chOff x="3995640" y="3798720"/>
              <a:chExt cx="911160" cy="200520"/>
            </a:xfrm>
          </p:grpSpPr>
          <p:sp>
            <p:nvSpPr>
              <p:cNvPr id="51" name=""/>
              <p:cNvSpPr/>
              <p:nvPr/>
            </p:nvSpPr>
            <p:spPr>
              <a:xfrm>
                <a:off x="3995640" y="3821040"/>
                <a:ext cx="277560" cy="154080"/>
              </a:xfrm>
              <a:prstGeom prst="roundRect">
                <a:avLst>
                  <a:gd name="adj" fmla="val 32815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d1d1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230360" y="3798720"/>
                <a:ext cx="67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ncertaint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3995640" y="4130640"/>
              <a:ext cx="847800" cy="200520"/>
              <a:chOff x="3995640" y="4130640"/>
              <a:chExt cx="847800" cy="200520"/>
            </a:xfrm>
          </p:grpSpPr>
          <p:sp>
            <p:nvSpPr>
              <p:cNvPr id="54" name=""/>
              <p:cNvSpPr/>
              <p:nvPr/>
            </p:nvSpPr>
            <p:spPr>
              <a:xfrm>
                <a:off x="3995640" y="4151160"/>
                <a:ext cx="265320" cy="1566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bdbdbd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167360" y="4130640"/>
                <a:ext cx="676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ecisi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995640" y="4460760"/>
              <a:ext cx="825480" cy="200520"/>
              <a:chOff x="3995640" y="4460760"/>
              <a:chExt cx="825480" cy="200520"/>
            </a:xfrm>
          </p:grpSpPr>
          <p:sp>
            <p:nvSpPr>
              <p:cNvPr id="57" name=""/>
              <p:cNvSpPr/>
              <p:nvPr/>
            </p:nvSpPr>
            <p:spPr>
              <a:xfrm>
                <a:off x="3995640" y="4484520"/>
                <a:ext cx="268200" cy="1522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144680" y="4460760"/>
                <a:ext cx="67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riteri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9" name=""/>
            <p:cNvCxnSpPr>
              <a:stCxn id="46" idx="4"/>
              <a:endCxn id="45" idx="0"/>
            </p:cNvCxnSpPr>
            <p:nvPr/>
          </p:nvCxnSpPr>
          <p:spPr>
            <a:xfrm flipH="1" rot="16200000">
              <a:off x="2775600" y="3944520"/>
              <a:ext cx="321120" cy="248760"/>
            </a:xfrm>
            <a:prstGeom prst="curvedConnector3">
              <a:avLst>
                <a:gd name="adj1" fmla="val 27946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45" name=""/>
            <p:cNvSpPr/>
            <p:nvPr/>
          </p:nvSpPr>
          <p:spPr>
            <a:xfrm>
              <a:off x="2886120" y="4229280"/>
              <a:ext cx="347760" cy="215640"/>
            </a:xfrm>
            <a:prstGeom prst="roundRect">
              <a:avLst>
                <a:gd name="adj" fmla="val 32815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08280" y="4240080"/>
              <a:ext cx="844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ree Cash Flow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392200" y="3718080"/>
              <a:ext cx="819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iscount rat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41480" y="4246560"/>
              <a:ext cx="4129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NP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"/>
          <p:cNvGrpSpPr/>
          <p:nvPr/>
        </p:nvGrpSpPr>
        <p:grpSpPr>
          <a:xfrm>
            <a:off x="1727280" y="1297080"/>
            <a:ext cx="5043240" cy="3635280"/>
            <a:chOff x="1727280" y="1297080"/>
            <a:chExt cx="5043240" cy="3635280"/>
          </a:xfrm>
        </p:grpSpPr>
        <p:sp>
          <p:nvSpPr>
            <p:cNvPr id="583" name=""/>
            <p:cNvSpPr/>
            <p:nvPr/>
          </p:nvSpPr>
          <p:spPr>
            <a:xfrm>
              <a:off x="1727280" y="1297080"/>
              <a:ext cx="5043240" cy="36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201840" y="3594240"/>
              <a:ext cx="596880" cy="2268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5" name=""/>
            <p:cNvCxnSpPr>
              <a:stCxn id="586" idx="2"/>
              <a:endCxn id="587" idx="0"/>
            </p:cNvCxnSpPr>
            <p:nvPr/>
          </p:nvCxnSpPr>
          <p:spPr>
            <a:xfrm flipH="1">
              <a:off x="4947840" y="2604960"/>
              <a:ext cx="8640" cy="349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88" name=""/>
            <p:cNvCxnSpPr>
              <a:stCxn id="584" idx="0"/>
              <a:endCxn id="589" idx="1"/>
            </p:cNvCxnSpPr>
            <p:nvPr/>
          </p:nvCxnSpPr>
          <p:spPr>
            <a:xfrm flipV="1" rot="16200000">
              <a:off x="3197160" y="3291120"/>
              <a:ext cx="553320" cy="52920"/>
            </a:xfrm>
            <a:prstGeom prst="curvedConnector5">
              <a:avLst>
                <a:gd name="adj1" fmla="val 41080"/>
                <a:gd name="adj2" fmla="val 267808"/>
                <a:gd name="adj3" fmla="val 41080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90" name=""/>
            <p:cNvCxnSpPr>
              <a:stCxn id="586" idx="1"/>
              <a:endCxn id="591" idx="0"/>
            </p:cNvCxnSpPr>
            <p:nvPr/>
          </p:nvCxnSpPr>
          <p:spPr>
            <a:xfrm flipV="1" rot="10800000">
              <a:off x="4377600" y="2505600"/>
              <a:ext cx="288000" cy="74700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92" name=""/>
            <p:cNvCxnSpPr>
              <a:stCxn id="593" idx="2"/>
              <a:endCxn id="586" idx="3"/>
            </p:cNvCxnSpPr>
            <p:nvPr/>
          </p:nvCxnSpPr>
          <p:spPr>
            <a:xfrm rot="5400000">
              <a:off x="5297040" y="2241360"/>
              <a:ext cx="214920" cy="31680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94" name=""/>
            <p:cNvCxnSpPr>
              <a:stCxn id="595" idx="4"/>
              <a:endCxn id="587" idx="3"/>
            </p:cNvCxnSpPr>
            <p:nvPr/>
          </p:nvCxnSpPr>
          <p:spPr>
            <a:xfrm rot="5400000">
              <a:off x="5319000" y="2774520"/>
              <a:ext cx="106920" cy="4532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96" name=""/>
            <p:cNvCxnSpPr>
              <a:stCxn id="597" idx="2"/>
              <a:endCxn id="598" idx="1"/>
            </p:cNvCxnSpPr>
            <p:nvPr/>
          </p:nvCxnSpPr>
          <p:spPr>
            <a:xfrm flipH="1" rot="16200000">
              <a:off x="3616920" y="3355560"/>
              <a:ext cx="757800" cy="3452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99" name=""/>
            <p:cNvCxnSpPr>
              <a:stCxn id="589" idx="3"/>
              <a:endCxn id="587" idx="1"/>
            </p:cNvCxnSpPr>
            <p:nvPr/>
          </p:nvCxnSpPr>
          <p:spPr>
            <a:xfrm>
              <a:off x="4200120" y="3041280"/>
              <a:ext cx="548280" cy="13320"/>
            </a:xfrm>
            <a:prstGeom prst="curvedConnector5">
              <a:avLst>
                <a:gd name="adj1" fmla="val 49802"/>
                <a:gd name="adj2" fmla="val 50000"/>
                <a:gd name="adj3" fmla="val 49802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600" name=""/>
            <p:cNvCxnSpPr>
              <a:stCxn id="598" idx="3"/>
              <a:endCxn id="601" idx="1"/>
            </p:cNvCxnSpPr>
            <p:nvPr/>
          </p:nvCxnSpPr>
          <p:spPr>
            <a:xfrm flipV="1">
              <a:off x="4843080" y="3777480"/>
              <a:ext cx="306720" cy="129240"/>
            </a:xfrm>
            <a:prstGeom prst="curvedConnector5">
              <a:avLst>
                <a:gd name="adj1" fmla="val 49706"/>
                <a:gd name="adj2" fmla="val 50000"/>
                <a:gd name="adj3" fmla="val 49706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602" name=""/>
            <p:cNvSpPr/>
            <p:nvPr/>
          </p:nvSpPr>
          <p:spPr>
            <a:xfrm>
              <a:off x="5365800" y="2027160"/>
              <a:ext cx="392040" cy="217440"/>
            </a:xfrm>
            <a:prstGeom prst="roundRect">
              <a:avLst>
                <a:gd name="adj" fmla="val 32815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d1d1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356080" y="1987560"/>
              <a:ext cx="41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il Pric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243240" y="3608280"/>
              <a:ext cx="542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3448080" y="2922480"/>
              <a:ext cx="752400" cy="226800"/>
              <a:chOff x="3448080" y="2922480"/>
              <a:chExt cx="752400" cy="226800"/>
            </a:xfrm>
          </p:grpSpPr>
          <p:sp>
            <p:nvSpPr>
              <p:cNvPr id="597" name=""/>
              <p:cNvSpPr/>
              <p:nvPr/>
            </p:nvSpPr>
            <p:spPr>
              <a:xfrm>
                <a:off x="3477960" y="2922480"/>
                <a:ext cx="692280" cy="22680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448080" y="2941200"/>
                <a:ext cx="7524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epreciati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4748040" y="2935440"/>
              <a:ext cx="398160" cy="226800"/>
              <a:chOff x="4748040" y="2935440"/>
              <a:chExt cx="398160" cy="226800"/>
            </a:xfrm>
          </p:grpSpPr>
          <p:sp>
            <p:nvSpPr>
              <p:cNvPr id="606" name=""/>
              <p:cNvSpPr/>
              <p:nvPr/>
            </p:nvSpPr>
            <p:spPr>
              <a:xfrm>
                <a:off x="4763880" y="2935440"/>
                <a:ext cx="365040" cy="22680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748040" y="2954520"/>
                <a:ext cx="398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a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7" name=""/>
            <p:cNvSpPr/>
            <p:nvPr/>
          </p:nvSpPr>
          <p:spPr>
            <a:xfrm>
              <a:off x="4162320" y="3232080"/>
              <a:ext cx="447840" cy="2383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124160" y="3252960"/>
              <a:ext cx="506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com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149800" y="3659040"/>
              <a:ext cx="774720" cy="2383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130720" y="3683160"/>
              <a:ext cx="844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ree Cash Flow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9" name=""/>
            <p:cNvCxnSpPr>
              <a:stCxn id="584" idx="2"/>
              <a:endCxn id="601" idx="2"/>
            </p:cNvCxnSpPr>
            <p:nvPr/>
          </p:nvCxnSpPr>
          <p:spPr>
            <a:xfrm flipH="1" rot="16200000">
              <a:off x="4480560" y="2840400"/>
              <a:ext cx="76680" cy="2037600"/>
            </a:xfrm>
            <a:prstGeom prst="curvedConnector5">
              <a:avLst>
                <a:gd name="adj1" fmla="val 590094"/>
                <a:gd name="adj2" fmla="val 49991"/>
                <a:gd name="adj3" fmla="val 590094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610" name=""/>
            <p:cNvCxnSpPr>
              <a:stCxn id="601" idx="3"/>
              <a:endCxn id="611" idx="1"/>
            </p:cNvCxnSpPr>
            <p:nvPr/>
          </p:nvCxnSpPr>
          <p:spPr>
            <a:xfrm>
              <a:off x="5924160" y="3777840"/>
              <a:ext cx="273960" cy="118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612" name=""/>
            <p:cNvSpPr/>
            <p:nvPr/>
          </p:nvSpPr>
          <p:spPr>
            <a:xfrm>
              <a:off x="4195800" y="3787920"/>
              <a:ext cx="619200" cy="233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168800" y="3807000"/>
              <a:ext cx="674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sh Flow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3" name=""/>
            <p:cNvCxnSpPr>
              <a:stCxn id="607" idx="2"/>
              <a:endCxn id="612" idx="0"/>
            </p:cNvCxnSpPr>
            <p:nvPr/>
          </p:nvCxnSpPr>
          <p:spPr>
            <a:xfrm flipH="1" rot="16200000">
              <a:off x="4286160" y="3569400"/>
              <a:ext cx="317880" cy="1198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614" name=""/>
            <p:cNvCxnSpPr>
              <a:stCxn id="606" idx="2"/>
              <a:endCxn id="591" idx="3"/>
            </p:cNvCxnSpPr>
            <p:nvPr/>
          </p:nvCxnSpPr>
          <p:spPr>
            <a:xfrm rot="5400000">
              <a:off x="4692960" y="3099240"/>
              <a:ext cx="191160" cy="31680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615" name=""/>
            <p:cNvSpPr/>
            <p:nvPr/>
          </p:nvSpPr>
          <p:spPr>
            <a:xfrm>
              <a:off x="4645080" y="2387520"/>
              <a:ext cx="611280" cy="2253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665600" y="2406600"/>
              <a:ext cx="581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venu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376960" y="2743200"/>
              <a:ext cx="442800" cy="20484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bdbdb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343480" y="2747880"/>
              <a:ext cx="528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ax rat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436920" y="2443320"/>
              <a:ext cx="676440" cy="215640"/>
            </a:xfrm>
            <a:prstGeom prst="roundRect">
              <a:avLst>
                <a:gd name="adj" fmla="val 32815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d1d1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411360" y="2403360"/>
              <a:ext cx="71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perating Cost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9" name=""/>
            <p:cNvCxnSpPr>
              <a:stCxn id="618" idx="3"/>
              <a:endCxn id="607" idx="0"/>
            </p:cNvCxnSpPr>
            <p:nvPr/>
          </p:nvCxnSpPr>
          <p:spPr>
            <a:xfrm>
              <a:off x="4124160" y="2556000"/>
              <a:ext cx="262800" cy="67680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620" name=""/>
            <p:cNvSpPr/>
            <p:nvPr/>
          </p:nvSpPr>
          <p:spPr>
            <a:xfrm>
              <a:off x="5778360" y="3156120"/>
              <a:ext cx="689040" cy="2044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bdbdb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715000" y="3160800"/>
              <a:ext cx="819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iscount rat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425760" y="1528920"/>
              <a:ext cx="523800" cy="231480"/>
            </a:xfrm>
            <a:prstGeom prst="roundRect">
              <a:avLst>
                <a:gd name="adj" fmla="val 32815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d1d1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398760" y="1494000"/>
              <a:ext cx="57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covery Rat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4" name=""/>
            <p:cNvCxnSpPr>
              <a:stCxn id="623" idx="3"/>
              <a:endCxn id="625" idx="0"/>
            </p:cNvCxnSpPr>
            <p:nvPr/>
          </p:nvCxnSpPr>
          <p:spPr>
            <a:xfrm>
              <a:off x="3974760" y="1645920"/>
              <a:ext cx="561240" cy="23580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626" name=""/>
            <p:cNvSpPr/>
            <p:nvPr/>
          </p:nvSpPr>
          <p:spPr>
            <a:xfrm>
              <a:off x="4235400" y="1900080"/>
              <a:ext cx="611280" cy="266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226040" y="188028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il Produc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7" name=""/>
            <p:cNvCxnSpPr>
              <a:stCxn id="625" idx="2"/>
              <a:endCxn id="615" idx="0"/>
            </p:cNvCxnSpPr>
            <p:nvPr/>
          </p:nvCxnSpPr>
          <p:spPr>
            <a:xfrm flipH="1" rot="16200000">
              <a:off x="4641840" y="2078640"/>
              <a:ext cx="202320" cy="416520"/>
            </a:xfrm>
            <a:prstGeom prst="curvedConnector5">
              <a:avLst>
                <a:gd name="adj1" fmla="val 49554"/>
                <a:gd name="adj2" fmla="val 50000"/>
                <a:gd name="adj3" fmla="val 49554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grpSp>
          <p:nvGrpSpPr>
            <p:cNvPr id="628" name=""/>
            <p:cNvGrpSpPr/>
            <p:nvPr/>
          </p:nvGrpSpPr>
          <p:grpSpPr>
            <a:xfrm>
              <a:off x="2741760" y="4519440"/>
              <a:ext cx="909360" cy="200520"/>
              <a:chOff x="2741760" y="4519440"/>
              <a:chExt cx="909360" cy="200520"/>
            </a:xfrm>
          </p:grpSpPr>
          <p:sp>
            <p:nvSpPr>
              <p:cNvPr id="629" name=""/>
              <p:cNvSpPr/>
              <p:nvPr/>
            </p:nvSpPr>
            <p:spPr>
              <a:xfrm>
                <a:off x="2741760" y="4543200"/>
                <a:ext cx="279360" cy="15264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975040" y="4519440"/>
                <a:ext cx="676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alculati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613320" y="4519440"/>
              <a:ext cx="911160" cy="200520"/>
              <a:chOff x="3613320" y="4519440"/>
              <a:chExt cx="911160" cy="200520"/>
            </a:xfrm>
          </p:grpSpPr>
          <p:sp>
            <p:nvSpPr>
              <p:cNvPr id="632" name=""/>
              <p:cNvSpPr/>
              <p:nvPr/>
            </p:nvSpPr>
            <p:spPr>
              <a:xfrm>
                <a:off x="3613320" y="4541760"/>
                <a:ext cx="277560" cy="154080"/>
              </a:xfrm>
              <a:prstGeom prst="roundRect">
                <a:avLst>
                  <a:gd name="adj" fmla="val 32815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d1d1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848040" y="4519440"/>
                <a:ext cx="67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ncertaint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484520" y="4519440"/>
              <a:ext cx="847800" cy="200520"/>
              <a:chOff x="4484520" y="4519440"/>
              <a:chExt cx="847800" cy="200520"/>
            </a:xfrm>
          </p:grpSpPr>
          <p:sp>
            <p:nvSpPr>
              <p:cNvPr id="635" name=""/>
              <p:cNvSpPr/>
              <p:nvPr/>
            </p:nvSpPr>
            <p:spPr>
              <a:xfrm>
                <a:off x="4484520" y="4540320"/>
                <a:ext cx="265320" cy="1569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bdbdbd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656240" y="4519440"/>
                <a:ext cx="676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ecisi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5294160" y="4529160"/>
              <a:ext cx="825480" cy="200520"/>
              <a:chOff x="5294160" y="4529160"/>
              <a:chExt cx="825480" cy="200520"/>
            </a:xfrm>
          </p:grpSpPr>
          <p:sp>
            <p:nvSpPr>
              <p:cNvPr id="638" name=""/>
              <p:cNvSpPr/>
              <p:nvPr/>
            </p:nvSpPr>
            <p:spPr>
              <a:xfrm>
                <a:off x="5294160" y="4552920"/>
                <a:ext cx="268200" cy="1522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443200" y="4529160"/>
                <a:ext cx="67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riteri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40" name=""/>
            <p:cNvCxnSpPr>
              <a:stCxn id="620" idx="4"/>
              <a:endCxn id="611" idx="0"/>
            </p:cNvCxnSpPr>
            <p:nvPr/>
          </p:nvCxnSpPr>
          <p:spPr>
            <a:xfrm flipH="1" rot="16200000">
              <a:off x="6086160" y="3395880"/>
              <a:ext cx="321480" cy="2502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611" name=""/>
            <p:cNvSpPr/>
            <p:nvPr/>
          </p:nvSpPr>
          <p:spPr>
            <a:xfrm>
              <a:off x="6197760" y="3681360"/>
              <a:ext cx="347400" cy="216000"/>
            </a:xfrm>
            <a:prstGeom prst="roundRect">
              <a:avLst>
                <a:gd name="adj" fmla="val 32815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164280" y="3689280"/>
              <a:ext cx="412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NP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159000" y="1967040"/>
              <a:ext cx="524160" cy="231480"/>
            </a:xfrm>
            <a:prstGeom prst="roundRect">
              <a:avLst>
                <a:gd name="adj" fmla="val 32815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d1d1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141720" y="1989000"/>
              <a:ext cx="576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serv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4" name=""/>
            <p:cNvCxnSpPr>
              <a:stCxn id="643" idx="3"/>
              <a:endCxn id="626" idx="1"/>
            </p:cNvCxnSpPr>
            <p:nvPr/>
          </p:nvCxnSpPr>
          <p:spPr>
            <a:xfrm flipV="1">
              <a:off x="3717720" y="2033280"/>
              <a:ext cx="518040" cy="56160"/>
            </a:xfrm>
            <a:prstGeom prst="curvedConnector5">
              <a:avLst>
                <a:gd name="adj1" fmla="val 50000"/>
                <a:gd name="adj2" fmla="val 49677"/>
                <a:gd name="adj3" fmla="val 50000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grpSp>
          <p:nvGrpSpPr>
            <p:cNvPr id="645" name=""/>
            <p:cNvGrpSpPr/>
            <p:nvPr/>
          </p:nvGrpSpPr>
          <p:grpSpPr>
            <a:xfrm>
              <a:off x="2389320" y="3008160"/>
              <a:ext cx="718920" cy="307080"/>
              <a:chOff x="2389320" y="3008160"/>
              <a:chExt cx="718920" cy="307080"/>
            </a:xfrm>
          </p:grpSpPr>
          <p:sp>
            <p:nvSpPr>
              <p:cNvPr id="646" name=""/>
              <p:cNvSpPr/>
              <p:nvPr/>
            </p:nvSpPr>
            <p:spPr>
              <a:xfrm>
                <a:off x="2425680" y="3043080"/>
                <a:ext cx="666720" cy="231840"/>
              </a:xfrm>
              <a:prstGeom prst="roundRect">
                <a:avLst>
                  <a:gd name="adj" fmla="val 32815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d1d1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389320" y="3008160"/>
                <a:ext cx="718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xploration Well Cost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2093760" y="3559320"/>
              <a:ext cx="718920" cy="307080"/>
              <a:chOff x="2093760" y="3559320"/>
              <a:chExt cx="718920" cy="307080"/>
            </a:xfrm>
          </p:grpSpPr>
          <p:sp>
            <p:nvSpPr>
              <p:cNvPr id="649" name=""/>
              <p:cNvSpPr/>
              <p:nvPr/>
            </p:nvSpPr>
            <p:spPr>
              <a:xfrm>
                <a:off x="2130120" y="3594240"/>
                <a:ext cx="666720" cy="231840"/>
              </a:xfrm>
              <a:prstGeom prst="roundRect">
                <a:avLst>
                  <a:gd name="adj" fmla="val 32815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d1d1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093760" y="3559320"/>
                <a:ext cx="718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ppraisal Well Cost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2455920" y="4084560"/>
              <a:ext cx="718920" cy="307080"/>
              <a:chOff x="2455920" y="4084560"/>
              <a:chExt cx="718920" cy="307080"/>
            </a:xfrm>
          </p:grpSpPr>
          <p:sp>
            <p:nvSpPr>
              <p:cNvPr id="652" name=""/>
              <p:cNvSpPr/>
              <p:nvPr/>
            </p:nvSpPr>
            <p:spPr>
              <a:xfrm>
                <a:off x="2492280" y="4119480"/>
                <a:ext cx="666720" cy="231840"/>
              </a:xfrm>
              <a:prstGeom prst="roundRect">
                <a:avLst>
                  <a:gd name="adj" fmla="val 32815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d1d1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455920" y="4084560"/>
                <a:ext cx="718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evelopment Cost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54" name=""/>
            <p:cNvCxnSpPr>
              <a:stCxn id="647" idx="2"/>
              <a:endCxn id="584" idx="1"/>
            </p:cNvCxnSpPr>
            <p:nvPr/>
          </p:nvCxnSpPr>
          <p:spPr>
            <a:xfrm flipH="1" rot="16200000">
              <a:off x="2778120" y="3284280"/>
              <a:ext cx="396000" cy="4528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655" name=""/>
            <p:cNvCxnSpPr>
              <a:stCxn id="649" idx="3"/>
              <a:endCxn id="584" idx="1"/>
            </p:cNvCxnSpPr>
            <p:nvPr/>
          </p:nvCxnSpPr>
          <p:spPr>
            <a:xfrm flipV="1">
              <a:off x="2797200" y="3707640"/>
              <a:ext cx="405360" cy="2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656" name=""/>
            <p:cNvCxnSpPr>
              <a:stCxn id="653" idx="0"/>
              <a:endCxn id="584" idx="1"/>
            </p:cNvCxnSpPr>
            <p:nvPr/>
          </p:nvCxnSpPr>
          <p:spPr>
            <a:xfrm flipH="1" flipV="1" rot="5400000">
              <a:off x="2820600" y="3702960"/>
              <a:ext cx="376920" cy="3862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57" name=""/>
            <p:cNvSpPr/>
            <p:nvPr/>
          </p:nvSpPr>
          <p:spPr>
            <a:xfrm>
              <a:off x="2092320" y="1776240"/>
              <a:ext cx="790560" cy="231840"/>
            </a:xfrm>
            <a:prstGeom prst="roundRect">
              <a:avLst>
                <a:gd name="adj" fmla="val 32815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d1d1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093760" y="1751040"/>
              <a:ext cx="79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hance of moveable oi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2257560" y="2333520"/>
            <a:ext cx="4419360" cy="2641680"/>
            <a:chOff x="2257560" y="2333520"/>
            <a:chExt cx="4419360" cy="2641680"/>
          </a:xfrm>
        </p:grpSpPr>
        <p:sp>
          <p:nvSpPr>
            <p:cNvPr id="64" name=""/>
            <p:cNvSpPr/>
            <p:nvPr/>
          </p:nvSpPr>
          <p:spPr>
            <a:xfrm>
              <a:off x="2257560" y="2333520"/>
              <a:ext cx="4419360" cy="264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" name=""/>
            <p:cNvCxnSpPr>
              <a:stCxn id="66" idx="3"/>
              <a:endCxn id="67" idx="1"/>
            </p:cNvCxnSpPr>
            <p:nvPr/>
          </p:nvCxnSpPr>
          <p:spPr>
            <a:xfrm flipV="1">
              <a:off x="3250800" y="3387600"/>
              <a:ext cx="321480" cy="1292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68" name=""/>
            <p:cNvSpPr/>
            <p:nvPr/>
          </p:nvSpPr>
          <p:spPr>
            <a:xfrm>
              <a:off x="3030480" y="4119480"/>
              <a:ext cx="601560" cy="270000"/>
            </a:xfrm>
            <a:prstGeom prst="roundRect">
              <a:avLst>
                <a:gd name="adj" fmla="val 32815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d1d1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005280" y="4119480"/>
              <a:ext cx="65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pital Investmen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920" y="3268800"/>
              <a:ext cx="774720" cy="2379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52840" y="3306600"/>
              <a:ext cx="844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ree Cash Flow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1" name=""/>
            <p:cNvCxnSpPr>
              <a:stCxn id="68" idx="0"/>
              <a:endCxn id="67" idx="2"/>
            </p:cNvCxnSpPr>
            <p:nvPr/>
          </p:nvCxnSpPr>
          <p:spPr>
            <a:xfrm flipH="1" flipV="1" rot="5400000">
              <a:off x="3339000" y="3499200"/>
              <a:ext cx="613440" cy="627840"/>
            </a:xfrm>
            <a:prstGeom prst="curvedConnector5">
              <a:avLst>
                <a:gd name="adj1" fmla="val 49970"/>
                <a:gd name="adj2" fmla="val 49971"/>
                <a:gd name="adj3" fmla="val 49970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72" name=""/>
            <p:cNvSpPr/>
            <p:nvPr/>
          </p:nvSpPr>
          <p:spPr>
            <a:xfrm>
              <a:off x="2617920" y="3397320"/>
              <a:ext cx="618840" cy="233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76520" y="3416400"/>
              <a:ext cx="674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sh Flow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00480" y="2765520"/>
              <a:ext cx="689040" cy="20484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bdbdb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137120" y="2784600"/>
              <a:ext cx="819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iscount Rat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5" name=""/>
            <p:cNvCxnSpPr>
              <a:stCxn id="73" idx="4"/>
              <a:endCxn id="76" idx="0"/>
            </p:cNvCxnSpPr>
            <p:nvPr/>
          </p:nvCxnSpPr>
          <p:spPr>
            <a:xfrm flipH="1" rot="16200000">
              <a:off x="4509360" y="3005640"/>
              <a:ext cx="321120" cy="249840"/>
            </a:xfrm>
            <a:prstGeom prst="curvedConnector5">
              <a:avLst>
                <a:gd name="adj1" fmla="val 49943"/>
                <a:gd name="adj2" fmla="val 49927"/>
                <a:gd name="adj3" fmla="val 49943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76" name=""/>
            <p:cNvSpPr/>
            <p:nvPr/>
          </p:nvSpPr>
          <p:spPr>
            <a:xfrm>
              <a:off x="4619520" y="3290760"/>
              <a:ext cx="347760" cy="216000"/>
            </a:xfrm>
            <a:prstGeom prst="roundRect">
              <a:avLst>
                <a:gd name="adj" fmla="val 32815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586400" y="3298680"/>
              <a:ext cx="412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NP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5524560" y="3014640"/>
              <a:ext cx="909360" cy="200520"/>
              <a:chOff x="5524560" y="3014640"/>
              <a:chExt cx="909360" cy="200520"/>
            </a:xfrm>
          </p:grpSpPr>
          <p:sp>
            <p:nvSpPr>
              <p:cNvPr id="79" name=""/>
              <p:cNvSpPr/>
              <p:nvPr/>
            </p:nvSpPr>
            <p:spPr>
              <a:xfrm>
                <a:off x="5524560" y="3038400"/>
                <a:ext cx="279360" cy="15264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757840" y="3014640"/>
                <a:ext cx="676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alculati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529240" y="3344760"/>
              <a:ext cx="911160" cy="200520"/>
              <a:chOff x="5529240" y="3344760"/>
              <a:chExt cx="911160" cy="200520"/>
            </a:xfrm>
          </p:grpSpPr>
          <p:sp>
            <p:nvSpPr>
              <p:cNvPr id="82" name=""/>
              <p:cNvSpPr/>
              <p:nvPr/>
            </p:nvSpPr>
            <p:spPr>
              <a:xfrm>
                <a:off x="5529240" y="3367080"/>
                <a:ext cx="277560" cy="154080"/>
              </a:xfrm>
              <a:prstGeom prst="roundRect">
                <a:avLst>
                  <a:gd name="adj" fmla="val 32815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d1d1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763960" y="3344760"/>
                <a:ext cx="67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ncertaint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5529240" y="3676680"/>
              <a:ext cx="847800" cy="200520"/>
              <a:chOff x="5529240" y="3676680"/>
              <a:chExt cx="847800" cy="200520"/>
            </a:xfrm>
          </p:grpSpPr>
          <p:sp>
            <p:nvSpPr>
              <p:cNvPr id="85" name=""/>
              <p:cNvSpPr/>
              <p:nvPr/>
            </p:nvSpPr>
            <p:spPr>
              <a:xfrm>
                <a:off x="5529240" y="3697200"/>
                <a:ext cx="265320" cy="1566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bdbdbd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700960" y="3676680"/>
                <a:ext cx="676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ecisi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5529240" y="4006800"/>
              <a:ext cx="825480" cy="200520"/>
              <a:chOff x="5529240" y="4006800"/>
              <a:chExt cx="825480" cy="200520"/>
            </a:xfrm>
          </p:grpSpPr>
          <p:sp>
            <p:nvSpPr>
              <p:cNvPr id="88" name=""/>
              <p:cNvSpPr/>
              <p:nvPr/>
            </p:nvSpPr>
            <p:spPr>
              <a:xfrm>
                <a:off x="5529240" y="4030560"/>
                <a:ext cx="268200" cy="1522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678280" y="4006800"/>
                <a:ext cx="67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riteri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90" name=""/>
            <p:cNvCxnSpPr>
              <a:endCxn id="77" idx="1"/>
            </p:cNvCxnSpPr>
            <p:nvPr/>
          </p:nvCxnSpPr>
          <p:spPr>
            <a:xfrm>
              <a:off x="4371840" y="3395160"/>
              <a:ext cx="215280" cy="3960"/>
            </a:xfrm>
            <a:prstGeom prst="curvedConnector5">
              <a:avLst>
                <a:gd name="adj1" fmla="val 49581"/>
                <a:gd name="adj2" fmla="val 50000"/>
                <a:gd name="adj3" fmla="val 49581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65480" y="1363680"/>
            <a:ext cx="5043240" cy="363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60760" y="2808360"/>
            <a:ext cx="387360" cy="2268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7c1d1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43480" y="2827440"/>
            <a:ext cx="422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pe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 flipH="1">
            <a:off x="5400360" y="2662200"/>
            <a:ext cx="8640" cy="349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97" name=""/>
          <p:cNvCxnSpPr>
            <a:stCxn id="98" idx="0"/>
            <a:endCxn id="99" idx="2"/>
          </p:cNvCxnSpPr>
          <p:nvPr/>
        </p:nvCxnSpPr>
        <p:spPr>
          <a:xfrm flipH="1" flipV="1" rot="5400000">
            <a:off x="3603600" y="3373920"/>
            <a:ext cx="335520" cy="591120"/>
          </a:xfrm>
          <a:prstGeom prst="curvedConnector5">
            <a:avLst>
              <a:gd name="adj1" fmla="val 49731"/>
              <a:gd name="adj2" fmla="val 49969"/>
              <a:gd name="adj3" fmla="val 49731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00" name=""/>
          <p:cNvCxnSpPr>
            <a:stCxn id="95" idx="1"/>
            <a:endCxn id="101" idx="0"/>
          </p:cNvCxnSpPr>
          <p:nvPr/>
        </p:nvCxnSpPr>
        <p:spPr>
          <a:xfrm flipV="1" rot="10800000">
            <a:off x="4906080" y="2562840"/>
            <a:ext cx="212040" cy="851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02" name=""/>
          <p:cNvCxnSpPr>
            <a:stCxn id="92" idx="2"/>
            <a:endCxn id="101" idx="0"/>
          </p:cNvCxnSpPr>
          <p:nvPr/>
        </p:nvCxnSpPr>
        <p:spPr>
          <a:xfrm flipH="1" rot="16200000">
            <a:off x="4590000" y="3098520"/>
            <a:ext cx="380160" cy="253080"/>
          </a:xfrm>
          <a:prstGeom prst="curvedConnector5">
            <a:avLst>
              <a:gd name="adj1" fmla="val 49763"/>
              <a:gd name="adj2" fmla="val 50000"/>
              <a:gd name="adj3" fmla="val 49763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03" name=""/>
          <p:cNvCxnSpPr>
            <a:stCxn id="104" idx="2"/>
            <a:endCxn id="95" idx="3"/>
          </p:cNvCxnSpPr>
          <p:nvPr/>
        </p:nvCxnSpPr>
        <p:spPr>
          <a:xfrm rot="5400000">
            <a:off x="5719680" y="2269080"/>
            <a:ext cx="273960" cy="3164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05" name=""/>
          <p:cNvCxnSpPr>
            <a:stCxn id="106" idx="4"/>
            <a:endCxn id="96" idx="3"/>
          </p:cNvCxnSpPr>
          <p:nvPr/>
        </p:nvCxnSpPr>
        <p:spPr>
          <a:xfrm rot="5400000">
            <a:off x="5771520" y="2831760"/>
            <a:ext cx="106920" cy="4532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07" name=""/>
          <p:cNvCxnSpPr>
            <a:stCxn id="108" idx="6"/>
            <a:endCxn id="109" idx="1"/>
          </p:cNvCxnSpPr>
          <p:nvPr/>
        </p:nvCxnSpPr>
        <p:spPr>
          <a:xfrm>
            <a:off x="4000680" y="2333160"/>
            <a:ext cx="181440" cy="135720"/>
          </a:xfrm>
          <a:prstGeom prst="curvedConnector5">
            <a:avLst>
              <a:gd name="adj1" fmla="val 49900"/>
              <a:gd name="adj2" fmla="val 50000"/>
              <a:gd name="adj3" fmla="val 49900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10" name=""/>
          <p:cNvCxnSpPr>
            <a:stCxn id="111" idx="3"/>
            <a:endCxn id="112" idx="1"/>
          </p:cNvCxnSpPr>
          <p:nvPr/>
        </p:nvCxnSpPr>
        <p:spPr>
          <a:xfrm>
            <a:off x="4443480" y="3393720"/>
            <a:ext cx="178200" cy="5706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13" name=""/>
          <p:cNvCxnSpPr>
            <a:stCxn id="111" idx="3"/>
            <a:endCxn id="96" idx="1"/>
          </p:cNvCxnSpPr>
          <p:nvPr/>
        </p:nvCxnSpPr>
        <p:spPr>
          <a:xfrm flipV="1">
            <a:off x="4443120" y="3110760"/>
            <a:ext cx="757800" cy="283320"/>
          </a:xfrm>
          <a:prstGeom prst="curvedConnector5">
            <a:avLst>
              <a:gd name="adj1" fmla="val 49857"/>
              <a:gd name="adj2" fmla="val 50000"/>
              <a:gd name="adj3" fmla="val 49857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14" name=""/>
          <p:cNvCxnSpPr>
            <a:stCxn id="112" idx="3"/>
            <a:endCxn id="115" idx="1"/>
          </p:cNvCxnSpPr>
          <p:nvPr/>
        </p:nvCxnSpPr>
        <p:spPr>
          <a:xfrm flipV="1">
            <a:off x="5295600" y="3834720"/>
            <a:ext cx="306720" cy="129240"/>
          </a:xfrm>
          <a:prstGeom prst="curvedConnector5">
            <a:avLst>
              <a:gd name="adj1" fmla="val 49706"/>
              <a:gd name="adj2" fmla="val 50000"/>
              <a:gd name="adj3" fmla="val 49706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16" name=""/>
          <p:cNvSpPr/>
          <p:nvPr/>
        </p:nvSpPr>
        <p:spPr>
          <a:xfrm>
            <a:off x="5818320" y="2084400"/>
            <a:ext cx="392040" cy="217440"/>
          </a:xfrm>
          <a:prstGeom prst="roundRect">
            <a:avLst>
              <a:gd name="adj" fmla="val 32815"/>
            </a:avLst>
          </a:prstGeom>
          <a:gradFill rotWithShape="0">
            <a:gsLst>
              <a:gs pos="0">
                <a:srgbClr val="ffff00"/>
              </a:gs>
              <a:gs pos="100000">
                <a:srgbClr val="d1d1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08600" y="2092320"/>
            <a:ext cx="412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8" idx="6"/>
            <a:endCxn id="118" idx="1"/>
          </p:cNvCxnSpPr>
          <p:nvPr/>
        </p:nvCxnSpPr>
        <p:spPr>
          <a:xfrm flipV="1">
            <a:off x="4000320" y="2066400"/>
            <a:ext cx="888120" cy="267120"/>
          </a:xfrm>
          <a:prstGeom prst="curvedConnector5">
            <a:avLst>
              <a:gd name="adj1" fmla="val 49878"/>
              <a:gd name="adj2" fmla="val 49932"/>
              <a:gd name="adj3" fmla="val 49878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19" name=""/>
          <p:cNvSpPr/>
          <p:nvPr/>
        </p:nvSpPr>
        <p:spPr>
          <a:xfrm>
            <a:off x="3227400" y="3833640"/>
            <a:ext cx="506520" cy="216000"/>
          </a:xfrm>
          <a:prstGeom prst="roundRect">
            <a:avLst>
              <a:gd name="adj" fmla="val 32815"/>
            </a:avLst>
          </a:prstGeom>
          <a:gradFill rotWithShape="0">
            <a:gsLst>
              <a:gs pos="0">
                <a:srgbClr val="ffff00"/>
              </a:gs>
              <a:gs pos="100000">
                <a:srgbClr val="d1d1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46480" y="3836880"/>
            <a:ext cx="460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691080" y="3274920"/>
            <a:ext cx="752400" cy="226800"/>
            <a:chOff x="3691080" y="3274920"/>
            <a:chExt cx="752400" cy="226800"/>
          </a:xfrm>
        </p:grpSpPr>
        <p:sp>
          <p:nvSpPr>
            <p:cNvPr id="99" name=""/>
            <p:cNvSpPr/>
            <p:nvPr/>
          </p:nvSpPr>
          <p:spPr>
            <a:xfrm>
              <a:off x="3720960" y="3274920"/>
              <a:ext cx="692280" cy="2268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91080" y="3293640"/>
              <a:ext cx="752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reci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200560" y="2992320"/>
            <a:ext cx="398160" cy="226800"/>
            <a:chOff x="5200560" y="2992320"/>
            <a:chExt cx="398160" cy="226800"/>
          </a:xfrm>
        </p:grpSpPr>
        <p:sp>
          <p:nvSpPr>
            <p:cNvPr id="122" name=""/>
            <p:cNvSpPr/>
            <p:nvPr/>
          </p:nvSpPr>
          <p:spPr>
            <a:xfrm>
              <a:off x="5216400" y="2992320"/>
              <a:ext cx="365040" cy="2268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200560" y="3011400"/>
              <a:ext cx="398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ax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4691160" y="3394080"/>
            <a:ext cx="447480" cy="2379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7c1d1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53000" y="3414600"/>
            <a:ext cx="506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com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02320" y="3716280"/>
            <a:ext cx="774720" cy="2383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7c1d1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83240" y="3740040"/>
            <a:ext cx="844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ree Cash Flow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19" idx="2"/>
            <a:endCxn id="115" idx="2"/>
          </p:cNvCxnSpPr>
          <p:nvPr/>
        </p:nvCxnSpPr>
        <p:spPr>
          <a:xfrm flipH="1" flipV="1" rot="5400000">
            <a:off x="4686840" y="2747520"/>
            <a:ext cx="95760" cy="2508840"/>
          </a:xfrm>
          <a:prstGeom prst="curvedConnector5">
            <a:avLst>
              <a:gd name="adj1" fmla="val -240000"/>
              <a:gd name="adj2" fmla="val 50000"/>
              <a:gd name="adj3" fmla="val -240000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26" name=""/>
          <p:cNvCxnSpPr>
            <a:stCxn id="115" idx="3"/>
            <a:endCxn id="127" idx="1"/>
          </p:cNvCxnSpPr>
          <p:nvPr/>
        </p:nvCxnSpPr>
        <p:spPr>
          <a:xfrm>
            <a:off x="6377040" y="3835080"/>
            <a:ext cx="273240" cy="118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8" name=""/>
          <p:cNvSpPr/>
          <p:nvPr/>
        </p:nvSpPr>
        <p:spPr>
          <a:xfrm>
            <a:off x="4648320" y="3844800"/>
            <a:ext cx="618840" cy="2336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7c1d1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21320" y="3863880"/>
            <a:ext cx="674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ash Flow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3" idx="2"/>
            <a:endCxn id="128" idx="0"/>
          </p:cNvCxnSpPr>
          <p:nvPr/>
        </p:nvCxnSpPr>
        <p:spPr>
          <a:xfrm flipH="1" rot="16200000">
            <a:off x="4829040" y="3716640"/>
            <a:ext cx="213480" cy="435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30" name=""/>
          <p:cNvCxnSpPr>
            <a:stCxn id="122" idx="2"/>
            <a:endCxn id="101" idx="3"/>
          </p:cNvCxnSpPr>
          <p:nvPr/>
        </p:nvCxnSpPr>
        <p:spPr>
          <a:xfrm rot="5400000">
            <a:off x="5131080" y="3247200"/>
            <a:ext cx="295560" cy="24012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1" name=""/>
          <p:cNvSpPr/>
          <p:nvPr/>
        </p:nvSpPr>
        <p:spPr>
          <a:xfrm>
            <a:off x="5097600" y="2444760"/>
            <a:ext cx="610920" cy="2253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7c1d1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18120" y="2463840"/>
            <a:ext cx="581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ven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29480" y="2800440"/>
            <a:ext cx="442800" cy="20484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bdbdb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96000" y="280512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ax R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97320" y="1900080"/>
            <a:ext cx="944640" cy="216000"/>
          </a:xfrm>
          <a:prstGeom prst="roundRect">
            <a:avLst>
              <a:gd name="adj" fmla="val 32815"/>
            </a:avLst>
          </a:prstGeom>
          <a:gradFill rotWithShape="0">
            <a:gsLst>
              <a:gs pos="0">
                <a:srgbClr val="ffff00"/>
              </a:gs>
              <a:gs pos="100000">
                <a:srgbClr val="d1d1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75000" y="1903320"/>
            <a:ext cx="995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ble Unit Cos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70120" y="2738520"/>
            <a:ext cx="676440" cy="215640"/>
          </a:xfrm>
          <a:prstGeom prst="roundRect">
            <a:avLst>
              <a:gd name="adj" fmla="val 32815"/>
            </a:avLst>
          </a:prstGeom>
          <a:gradFill rotWithShape="0">
            <a:gsLst>
              <a:gs pos="0">
                <a:srgbClr val="ffff00"/>
              </a:gs>
              <a:gs pos="100000">
                <a:srgbClr val="d1d1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54280" y="2746440"/>
            <a:ext cx="712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ixed Cos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6" idx="3"/>
            <a:endCxn id="93" idx="1"/>
          </p:cNvCxnSpPr>
          <p:nvPr/>
        </p:nvCxnSpPr>
        <p:spPr>
          <a:xfrm>
            <a:off x="4267080" y="2846160"/>
            <a:ext cx="177120" cy="81360"/>
          </a:xfrm>
          <a:prstGeom prst="curvedConnector5">
            <a:avLst>
              <a:gd name="adj1" fmla="val 49490"/>
              <a:gd name="adj2" fmla="val 49777"/>
              <a:gd name="adj3" fmla="val 49490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38" name=""/>
          <p:cNvCxnSpPr>
            <a:stCxn id="109" idx="2"/>
            <a:endCxn id="92" idx="0"/>
          </p:cNvCxnSpPr>
          <p:nvPr/>
        </p:nvCxnSpPr>
        <p:spPr>
          <a:xfrm flipH="1" rot="16200000">
            <a:off x="4501440" y="2655000"/>
            <a:ext cx="241920" cy="65520"/>
          </a:xfrm>
          <a:prstGeom prst="curvedConnector5">
            <a:avLst>
              <a:gd name="adj1" fmla="val 49925"/>
              <a:gd name="adj2" fmla="val 49723"/>
              <a:gd name="adj3" fmla="val 49925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9" name=""/>
          <p:cNvSpPr/>
          <p:nvPr/>
        </p:nvSpPr>
        <p:spPr>
          <a:xfrm>
            <a:off x="4208400" y="2335320"/>
            <a:ext cx="746280" cy="2253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7c1d1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81400" y="2368440"/>
            <a:ext cx="814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ble Cos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4" idx="3"/>
            <a:endCxn id="139" idx="0"/>
          </p:cNvCxnSpPr>
          <p:nvPr/>
        </p:nvCxnSpPr>
        <p:spPr>
          <a:xfrm>
            <a:off x="4370400" y="2003400"/>
            <a:ext cx="211680" cy="3326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41" name=""/>
          <p:cNvSpPr/>
          <p:nvPr/>
        </p:nvSpPr>
        <p:spPr>
          <a:xfrm>
            <a:off x="6230880" y="3213000"/>
            <a:ext cx="689040" cy="20484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bdbdb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67520" y="3218040"/>
            <a:ext cx="819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scount R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54400" y="1519200"/>
            <a:ext cx="523800" cy="231840"/>
          </a:xfrm>
          <a:prstGeom prst="roundRect">
            <a:avLst>
              <a:gd name="adj" fmla="val 32815"/>
            </a:avLst>
          </a:prstGeom>
          <a:gradFill rotWithShape="0">
            <a:gsLst>
              <a:gs pos="0">
                <a:srgbClr val="ffff00"/>
              </a:gs>
              <a:gs pos="100000">
                <a:srgbClr val="d1d1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37120" y="1531800"/>
            <a:ext cx="57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44" idx="3"/>
            <a:endCxn id="118" idx="0"/>
          </p:cNvCxnSpPr>
          <p:nvPr/>
        </p:nvCxnSpPr>
        <p:spPr>
          <a:xfrm>
            <a:off x="4712760" y="1631520"/>
            <a:ext cx="484920" cy="28332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46" name=""/>
          <p:cNvSpPr/>
          <p:nvPr/>
        </p:nvSpPr>
        <p:spPr>
          <a:xfrm>
            <a:off x="5357880" y="1504800"/>
            <a:ext cx="620640" cy="247680"/>
          </a:xfrm>
          <a:prstGeom prst="roundRect">
            <a:avLst>
              <a:gd name="adj" fmla="val 32815"/>
            </a:avLst>
          </a:prstGeom>
          <a:gradFill rotWithShape="0">
            <a:gsLst>
              <a:gs pos="0">
                <a:srgbClr val="ffff00"/>
              </a:gs>
              <a:gs pos="100000">
                <a:srgbClr val="d1d1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59320" y="1487520"/>
            <a:ext cx="66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duction R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7" idx="1"/>
            <a:endCxn id="118" idx="0"/>
          </p:cNvCxnSpPr>
          <p:nvPr/>
        </p:nvCxnSpPr>
        <p:spPr>
          <a:xfrm flipV="1" rot="10800000">
            <a:off x="5196600" y="1638720"/>
            <a:ext cx="162720" cy="275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49" name=""/>
          <p:cNvSpPr/>
          <p:nvPr/>
        </p:nvSpPr>
        <p:spPr>
          <a:xfrm>
            <a:off x="4897440" y="1919160"/>
            <a:ext cx="611280" cy="2667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7c1d1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88080" y="1913400"/>
            <a:ext cx="61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il Produc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18" idx="2"/>
            <a:endCxn id="131" idx="0"/>
          </p:cNvCxnSpPr>
          <p:nvPr/>
        </p:nvCxnSpPr>
        <p:spPr>
          <a:xfrm flipH="1" rot="16200000">
            <a:off x="5187960" y="2228400"/>
            <a:ext cx="226080" cy="207360"/>
          </a:xfrm>
          <a:prstGeom prst="curvedConnector5">
            <a:avLst>
              <a:gd name="adj1" fmla="val 49920"/>
              <a:gd name="adj2" fmla="val 49913"/>
              <a:gd name="adj3" fmla="val 49920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08" name=""/>
          <p:cNvSpPr/>
          <p:nvPr/>
        </p:nvSpPr>
        <p:spPr>
          <a:xfrm>
            <a:off x="3255840" y="2209680"/>
            <a:ext cx="744840" cy="24624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bdbdb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11560" y="2247840"/>
            <a:ext cx="838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il Stor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184560" y="4576680"/>
            <a:ext cx="909360" cy="200520"/>
            <a:chOff x="3184560" y="4576680"/>
            <a:chExt cx="909360" cy="200520"/>
          </a:xfrm>
        </p:grpSpPr>
        <p:sp>
          <p:nvSpPr>
            <p:cNvPr id="153" name=""/>
            <p:cNvSpPr/>
            <p:nvPr/>
          </p:nvSpPr>
          <p:spPr>
            <a:xfrm>
              <a:off x="3184560" y="4600440"/>
              <a:ext cx="279360" cy="15264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17840" y="4576680"/>
              <a:ext cx="6760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lcul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056120" y="4576680"/>
            <a:ext cx="911160" cy="200520"/>
            <a:chOff x="4056120" y="4576680"/>
            <a:chExt cx="911160" cy="200520"/>
          </a:xfrm>
        </p:grpSpPr>
        <p:sp>
          <p:nvSpPr>
            <p:cNvPr id="156" name=""/>
            <p:cNvSpPr/>
            <p:nvPr/>
          </p:nvSpPr>
          <p:spPr>
            <a:xfrm>
              <a:off x="4056120" y="4599000"/>
              <a:ext cx="277560" cy="154080"/>
            </a:xfrm>
            <a:prstGeom prst="roundRect">
              <a:avLst>
                <a:gd name="adj" fmla="val 32815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d1d1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90840" y="4576680"/>
              <a:ext cx="676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certain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4927680" y="4576680"/>
            <a:ext cx="847800" cy="200520"/>
            <a:chOff x="4927680" y="4576680"/>
            <a:chExt cx="847800" cy="200520"/>
          </a:xfrm>
        </p:grpSpPr>
        <p:sp>
          <p:nvSpPr>
            <p:cNvPr id="159" name=""/>
            <p:cNvSpPr/>
            <p:nvPr/>
          </p:nvSpPr>
          <p:spPr>
            <a:xfrm>
              <a:off x="4927680" y="4597200"/>
              <a:ext cx="265320" cy="156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bdbdb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99400" y="4576680"/>
              <a:ext cx="6760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cis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737320" y="4586400"/>
            <a:ext cx="825480" cy="200520"/>
            <a:chOff x="5737320" y="4586400"/>
            <a:chExt cx="825480" cy="200520"/>
          </a:xfrm>
        </p:grpSpPr>
        <p:sp>
          <p:nvSpPr>
            <p:cNvPr id="162" name=""/>
            <p:cNvSpPr/>
            <p:nvPr/>
          </p:nvSpPr>
          <p:spPr>
            <a:xfrm>
              <a:off x="5737320" y="4610160"/>
              <a:ext cx="268200" cy="152280"/>
            </a:xfrm>
            <a:prstGeom prst="flowChartAlternateProcess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886360" y="4586400"/>
              <a:ext cx="676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riter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4" name=""/>
          <p:cNvCxnSpPr>
            <a:stCxn id="141" idx="4"/>
            <a:endCxn id="127" idx="0"/>
          </p:cNvCxnSpPr>
          <p:nvPr/>
        </p:nvCxnSpPr>
        <p:spPr>
          <a:xfrm flipH="1" rot="16200000">
            <a:off x="6539400" y="3453120"/>
            <a:ext cx="321480" cy="249840"/>
          </a:xfrm>
          <a:prstGeom prst="curvedConnector5">
            <a:avLst>
              <a:gd name="adj1" fmla="val 50000"/>
              <a:gd name="adj2" fmla="val 49927"/>
              <a:gd name="adj3" fmla="val 50000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65" name=""/>
          <p:cNvGrpSpPr/>
          <p:nvPr/>
        </p:nvGrpSpPr>
        <p:grpSpPr>
          <a:xfrm>
            <a:off x="2575080" y="2533680"/>
            <a:ext cx="688680" cy="307080"/>
            <a:chOff x="2575080" y="2533680"/>
            <a:chExt cx="688680" cy="307080"/>
          </a:xfrm>
        </p:grpSpPr>
        <p:sp>
          <p:nvSpPr>
            <p:cNvPr id="166" name=""/>
            <p:cNvSpPr/>
            <p:nvPr/>
          </p:nvSpPr>
          <p:spPr>
            <a:xfrm>
              <a:off x="2575080" y="2533680"/>
              <a:ext cx="688680" cy="2566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bdbdb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08200" y="2533680"/>
              <a:ext cx="64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umber of well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8" name=""/>
          <p:cNvCxnSpPr>
            <a:stCxn id="166" idx="6"/>
            <a:endCxn id="136" idx="1"/>
          </p:cNvCxnSpPr>
          <p:nvPr/>
        </p:nvCxnSpPr>
        <p:spPr>
          <a:xfrm>
            <a:off x="3263400" y="2662200"/>
            <a:ext cx="291240" cy="185040"/>
          </a:xfrm>
          <a:prstGeom prst="curvedConnector5">
            <a:avLst>
              <a:gd name="adj1" fmla="val 49628"/>
              <a:gd name="adj2" fmla="val 49902"/>
              <a:gd name="adj3" fmla="val 49628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69" name=""/>
          <p:cNvCxnSpPr>
            <a:stCxn id="166" idx="5"/>
            <a:endCxn id="98" idx="0"/>
          </p:cNvCxnSpPr>
          <p:nvPr/>
        </p:nvCxnSpPr>
        <p:spPr>
          <a:xfrm flipH="1" rot="16200000">
            <a:off x="2776320" y="3137400"/>
            <a:ext cx="1085040" cy="315000"/>
          </a:xfrm>
          <a:prstGeom prst="curvedConnector5">
            <a:avLst>
              <a:gd name="adj1" fmla="val 51676"/>
              <a:gd name="adj2" fmla="val 50000"/>
              <a:gd name="adj3" fmla="val 51676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7" name=""/>
          <p:cNvSpPr/>
          <p:nvPr/>
        </p:nvSpPr>
        <p:spPr>
          <a:xfrm>
            <a:off x="6649920" y="3738600"/>
            <a:ext cx="347760" cy="216000"/>
          </a:xfrm>
          <a:prstGeom prst="roundRect">
            <a:avLst>
              <a:gd name="adj" fmla="val 32815"/>
            </a:avLst>
          </a:prstGeom>
          <a:gradFill rotWithShape="0">
            <a:gsLst>
              <a:gs pos="0">
                <a:srgbClr val="ccecff"/>
              </a:gs>
              <a:gs pos="100000">
                <a:srgbClr val="a7c1d1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16800" y="3746520"/>
            <a:ext cx="412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08" idx="3"/>
            <a:endCxn id="98" idx="0"/>
          </p:cNvCxnSpPr>
          <p:nvPr/>
        </p:nvCxnSpPr>
        <p:spPr>
          <a:xfrm flipH="1" rot="16200000">
            <a:off x="2712240" y="3072240"/>
            <a:ext cx="1418400" cy="111600"/>
          </a:xfrm>
          <a:prstGeom prst="curvedConnector5">
            <a:avLst>
              <a:gd name="adj1" fmla="val 51282"/>
              <a:gd name="adj2" fmla="val 49838"/>
              <a:gd name="adj3" fmla="val 51282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72" name=""/>
          <p:cNvSpPr/>
          <p:nvPr/>
        </p:nvSpPr>
        <p:spPr>
          <a:xfrm>
            <a:off x="2651040" y="3321000"/>
            <a:ext cx="506520" cy="216000"/>
          </a:xfrm>
          <a:prstGeom prst="roundRect">
            <a:avLst>
              <a:gd name="adj" fmla="val 32815"/>
            </a:avLst>
          </a:prstGeom>
          <a:gradFill rotWithShape="0">
            <a:gsLst>
              <a:gs pos="0">
                <a:srgbClr val="ffff00"/>
              </a:gs>
              <a:gs pos="100000">
                <a:srgbClr val="d1d1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33760" y="3325680"/>
            <a:ext cx="565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serv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3" idx="0"/>
            <a:endCxn id="166" idx="4"/>
          </p:cNvCxnSpPr>
          <p:nvPr/>
        </p:nvCxnSpPr>
        <p:spPr>
          <a:xfrm flipH="1" flipV="1" rot="5400000">
            <a:off x="2649960" y="3056400"/>
            <a:ext cx="535680" cy="3600"/>
          </a:xfrm>
          <a:prstGeom prst="curvedConnector5">
            <a:avLst>
              <a:gd name="adj1" fmla="val 49831"/>
              <a:gd name="adj2" fmla="val 44444"/>
              <a:gd name="adj3" fmla="val 49831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75" name=""/>
          <p:cNvCxnSpPr>
            <a:stCxn id="173" idx="2"/>
            <a:endCxn id="119" idx="1"/>
          </p:cNvCxnSpPr>
          <p:nvPr/>
        </p:nvCxnSpPr>
        <p:spPr>
          <a:xfrm flipH="1" rot="16200000">
            <a:off x="2863080" y="3576960"/>
            <a:ext cx="417960" cy="31176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9240" y="490680"/>
            <a:ext cx="5114880" cy="4071960"/>
            <a:chOff x="2019240" y="490680"/>
            <a:chExt cx="5114880" cy="4071960"/>
          </a:xfrm>
        </p:grpSpPr>
        <p:sp>
          <p:nvSpPr>
            <p:cNvPr id="177" name=""/>
            <p:cNvSpPr/>
            <p:nvPr/>
          </p:nvSpPr>
          <p:spPr>
            <a:xfrm>
              <a:off x="2019240" y="490680"/>
              <a:ext cx="5114880" cy="407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58080" y="3174840"/>
              <a:ext cx="433080" cy="293760"/>
            </a:xfrm>
            <a:prstGeom prst="flowChartAlternateProcess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32520" y="3213000"/>
              <a:ext cx="506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PV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0" name=""/>
            <p:cNvCxnSpPr>
              <a:stCxn id="181" idx="2"/>
              <a:endCxn id="178" idx="0"/>
            </p:cNvCxnSpPr>
            <p:nvPr/>
          </p:nvCxnSpPr>
          <p:spPr>
            <a:xfrm>
              <a:off x="6107040" y="2894040"/>
              <a:ext cx="169200" cy="281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grpSp>
          <p:nvGrpSpPr>
            <p:cNvPr id="182" name=""/>
            <p:cNvGrpSpPr/>
            <p:nvPr/>
          </p:nvGrpSpPr>
          <p:grpSpPr>
            <a:xfrm>
              <a:off x="4240080" y="1879560"/>
              <a:ext cx="519120" cy="271440"/>
              <a:chOff x="4240080" y="1879560"/>
              <a:chExt cx="519120" cy="271440"/>
            </a:xfrm>
          </p:grpSpPr>
          <p:sp>
            <p:nvSpPr>
              <p:cNvPr id="183" name=""/>
              <p:cNvSpPr/>
              <p:nvPr/>
            </p:nvSpPr>
            <p:spPr>
              <a:xfrm>
                <a:off x="4260960" y="1879560"/>
                <a:ext cx="475920" cy="27144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240080" y="1901880"/>
                <a:ext cx="519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pex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5" name=""/>
            <p:cNvCxnSpPr>
              <a:stCxn id="186" idx="2"/>
              <a:endCxn id="187" idx="0"/>
            </p:cNvCxnSpPr>
            <p:nvPr/>
          </p:nvCxnSpPr>
          <p:spPr>
            <a:xfrm flipH="1">
              <a:off x="5465520" y="1641240"/>
              <a:ext cx="57600" cy="53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88" name=""/>
            <p:cNvCxnSpPr>
              <a:stCxn id="189" idx="0"/>
              <a:endCxn id="190" idx="2"/>
            </p:cNvCxnSpPr>
            <p:nvPr/>
          </p:nvCxnSpPr>
          <p:spPr>
            <a:xfrm flipH="1" flipV="1" rot="5400000">
              <a:off x="3319200" y="2694960"/>
              <a:ext cx="390960" cy="321480"/>
            </a:xfrm>
            <a:prstGeom prst="curvedConnector5">
              <a:avLst>
                <a:gd name="adj1" fmla="val 49953"/>
                <a:gd name="adj2" fmla="val 50000"/>
                <a:gd name="adj3" fmla="val 49953"/>
              </a:avLst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91" name=""/>
            <p:cNvCxnSpPr>
              <a:stCxn id="186" idx="1"/>
              <a:endCxn id="192" idx="0"/>
            </p:cNvCxnSpPr>
            <p:nvPr/>
          </p:nvCxnSpPr>
          <p:spPr>
            <a:xfrm flipV="1" rot="10800000">
              <a:off x="4923720" y="1526760"/>
              <a:ext cx="191160" cy="10296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93" name=""/>
            <p:cNvCxnSpPr>
              <a:stCxn id="183" idx="2"/>
              <a:endCxn id="192" idx="0"/>
            </p:cNvCxnSpPr>
            <p:nvPr/>
          </p:nvCxnSpPr>
          <p:spPr>
            <a:xfrm flipH="1" rot="16200000">
              <a:off x="4509000" y="2140200"/>
              <a:ext cx="405720" cy="426240"/>
            </a:xfrm>
            <a:prstGeom prst="curvedConnector5">
              <a:avLst>
                <a:gd name="adj1" fmla="val 49733"/>
                <a:gd name="adj2" fmla="val 49957"/>
                <a:gd name="adj3" fmla="val 49733"/>
              </a:avLst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94" name=""/>
            <p:cNvCxnSpPr>
              <a:stCxn id="195" idx="2"/>
              <a:endCxn id="186" idx="3"/>
            </p:cNvCxnSpPr>
            <p:nvPr/>
          </p:nvCxnSpPr>
          <p:spPr>
            <a:xfrm rot="5400000">
              <a:off x="5936040" y="1191240"/>
              <a:ext cx="330840" cy="3420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96" name=""/>
            <p:cNvCxnSpPr>
              <a:stCxn id="197" idx="4"/>
              <a:endCxn id="187" idx="3"/>
            </p:cNvCxnSpPr>
            <p:nvPr/>
          </p:nvCxnSpPr>
          <p:spPr>
            <a:xfrm rot="5400000">
              <a:off x="5896080" y="1869480"/>
              <a:ext cx="234000" cy="6069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98" name=""/>
            <p:cNvCxnSpPr>
              <a:stCxn id="199" idx="1"/>
              <a:endCxn id="200" idx="0"/>
            </p:cNvCxnSpPr>
            <p:nvPr/>
          </p:nvCxnSpPr>
          <p:spPr>
            <a:xfrm flipV="1" rot="10800000">
              <a:off x="3855240" y="1066320"/>
              <a:ext cx="354960" cy="4500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201" name=""/>
            <p:cNvCxnSpPr>
              <a:stCxn id="202" idx="3"/>
              <a:endCxn id="203" idx="1"/>
            </p:cNvCxnSpPr>
            <p:nvPr/>
          </p:nvCxnSpPr>
          <p:spPr>
            <a:xfrm>
              <a:off x="4138560" y="2525760"/>
              <a:ext cx="426240" cy="581400"/>
            </a:xfrm>
            <a:prstGeom prst="curvedConnector5">
              <a:avLst>
                <a:gd name="adj1" fmla="val 49957"/>
                <a:gd name="adj2" fmla="val 50000"/>
                <a:gd name="adj3" fmla="val 49957"/>
              </a:avLst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204" name=""/>
            <p:cNvCxnSpPr>
              <a:stCxn id="202" idx="3"/>
              <a:endCxn id="187" idx="1"/>
            </p:cNvCxnSpPr>
            <p:nvPr/>
          </p:nvCxnSpPr>
          <p:spPr>
            <a:xfrm flipV="1">
              <a:off x="4138560" y="2288520"/>
              <a:ext cx="1083240" cy="2372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205" name=""/>
            <p:cNvCxnSpPr>
              <a:stCxn id="206" idx="2"/>
              <a:endCxn id="207" idx="0"/>
            </p:cNvCxnSpPr>
            <p:nvPr/>
          </p:nvCxnSpPr>
          <p:spPr>
            <a:xfrm flipH="1" rot="16200000">
              <a:off x="4966920" y="3260520"/>
              <a:ext cx="197640" cy="1782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grpSp>
          <p:nvGrpSpPr>
            <p:cNvPr id="208" name=""/>
            <p:cNvGrpSpPr/>
            <p:nvPr/>
          </p:nvGrpSpPr>
          <p:grpSpPr>
            <a:xfrm>
              <a:off x="6019920" y="958680"/>
              <a:ext cx="504720" cy="260280"/>
              <a:chOff x="6019920" y="958680"/>
              <a:chExt cx="504720" cy="260280"/>
            </a:xfrm>
          </p:grpSpPr>
          <p:sp>
            <p:nvSpPr>
              <p:cNvPr id="209" name=""/>
              <p:cNvSpPr/>
              <p:nvPr/>
            </p:nvSpPr>
            <p:spPr>
              <a:xfrm>
                <a:off x="6030720" y="958680"/>
                <a:ext cx="479160" cy="260280"/>
              </a:xfrm>
              <a:prstGeom prst="roundRect">
                <a:avLst>
                  <a:gd name="adj" fmla="val 32815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d1d100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019920" y="968040"/>
                <a:ext cx="5047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ic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4210200" y="942840"/>
              <a:ext cx="640800" cy="260280"/>
              <a:chOff x="4210200" y="942840"/>
              <a:chExt cx="640800" cy="260280"/>
            </a:xfrm>
          </p:grpSpPr>
          <p:sp>
            <p:nvSpPr>
              <p:cNvPr id="211" name=""/>
              <p:cNvSpPr/>
              <p:nvPr/>
            </p:nvSpPr>
            <p:spPr>
              <a:xfrm>
                <a:off x="4224240" y="942840"/>
                <a:ext cx="608400" cy="260280"/>
              </a:xfrm>
              <a:prstGeom prst="roundRect">
                <a:avLst>
                  <a:gd name="adj" fmla="val 32815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d1d100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210200" y="952200"/>
                <a:ext cx="64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Volum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2" name=""/>
            <p:cNvCxnSpPr>
              <a:stCxn id="199" idx="3"/>
              <a:endCxn id="213" idx="0"/>
            </p:cNvCxnSpPr>
            <p:nvPr/>
          </p:nvCxnSpPr>
          <p:spPr>
            <a:xfrm>
              <a:off x="4851000" y="1066680"/>
              <a:ext cx="670680" cy="3247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grpSp>
          <p:nvGrpSpPr>
            <p:cNvPr id="214" name=""/>
            <p:cNvGrpSpPr/>
            <p:nvPr/>
          </p:nvGrpSpPr>
          <p:grpSpPr>
            <a:xfrm>
              <a:off x="2909880" y="3041640"/>
              <a:ext cx="887040" cy="260280"/>
              <a:chOff x="2909880" y="3041640"/>
              <a:chExt cx="887040" cy="260280"/>
            </a:xfrm>
          </p:grpSpPr>
          <p:sp>
            <p:nvSpPr>
              <p:cNvPr id="215" name=""/>
              <p:cNvSpPr/>
              <p:nvPr/>
            </p:nvSpPr>
            <p:spPr>
              <a:xfrm>
                <a:off x="2929320" y="3041640"/>
                <a:ext cx="842040" cy="260280"/>
              </a:xfrm>
              <a:prstGeom prst="roundRect">
                <a:avLst>
                  <a:gd name="adj" fmla="val 32815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d1d100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909880" y="3051000"/>
                <a:ext cx="887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nvestm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3213000" y="2389320"/>
              <a:ext cx="925200" cy="271440"/>
              <a:chOff x="3213000" y="2389320"/>
              <a:chExt cx="925200" cy="271440"/>
            </a:xfrm>
          </p:grpSpPr>
          <p:sp>
            <p:nvSpPr>
              <p:cNvPr id="190" name=""/>
              <p:cNvSpPr/>
              <p:nvPr/>
            </p:nvSpPr>
            <p:spPr>
              <a:xfrm>
                <a:off x="3250080" y="2389320"/>
                <a:ext cx="848160" cy="27144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213000" y="2411640"/>
                <a:ext cx="925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epreciat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5221440" y="2152800"/>
              <a:ext cx="488880" cy="271440"/>
              <a:chOff x="5221440" y="2152800"/>
              <a:chExt cx="488880" cy="271440"/>
            </a:xfrm>
          </p:grpSpPr>
          <p:sp>
            <p:nvSpPr>
              <p:cNvPr id="218" name=""/>
              <p:cNvSpPr/>
              <p:nvPr/>
            </p:nvSpPr>
            <p:spPr>
              <a:xfrm>
                <a:off x="5240880" y="2152800"/>
                <a:ext cx="448200" cy="27144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221440" y="2175120"/>
                <a:ext cx="48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ax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626000" y="2532240"/>
              <a:ext cx="596880" cy="285480"/>
              <a:chOff x="4626000" y="2532240"/>
              <a:chExt cx="596880" cy="285480"/>
            </a:xfrm>
          </p:grpSpPr>
          <p:sp>
            <p:nvSpPr>
              <p:cNvPr id="220" name=""/>
              <p:cNvSpPr/>
              <p:nvPr/>
            </p:nvSpPr>
            <p:spPr>
              <a:xfrm>
                <a:off x="4649760" y="2532240"/>
                <a:ext cx="547560" cy="28548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626000" y="2555640"/>
                <a:ext cx="596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ncom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4637160" y="3424320"/>
              <a:ext cx="1034640" cy="285480"/>
              <a:chOff x="4637160" y="3424320"/>
              <a:chExt cx="1034640" cy="285480"/>
            </a:xfrm>
          </p:grpSpPr>
          <p:sp>
            <p:nvSpPr>
              <p:cNvPr id="222" name=""/>
              <p:cNvSpPr/>
              <p:nvPr/>
            </p:nvSpPr>
            <p:spPr>
              <a:xfrm>
                <a:off x="4678560" y="3424320"/>
                <a:ext cx="948240" cy="28548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637160" y="3447720"/>
                <a:ext cx="1034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ree Cash Flo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23" name=""/>
            <p:cNvCxnSpPr>
              <a:stCxn id="215" idx="2"/>
              <a:endCxn id="207" idx="1"/>
            </p:cNvCxnSpPr>
            <p:nvPr/>
          </p:nvCxnSpPr>
          <p:spPr>
            <a:xfrm flipH="1" rot="16200000">
              <a:off x="3863880" y="2788560"/>
              <a:ext cx="261000" cy="12866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224" name=""/>
            <p:cNvCxnSpPr>
              <a:stCxn id="207" idx="3"/>
              <a:endCxn id="179" idx="1"/>
            </p:cNvCxnSpPr>
            <p:nvPr/>
          </p:nvCxnSpPr>
          <p:spPr>
            <a:xfrm flipV="1">
              <a:off x="5671800" y="3327120"/>
              <a:ext cx="361080" cy="235440"/>
            </a:xfrm>
            <a:prstGeom prst="curvedConnector5">
              <a:avLst>
                <a:gd name="adj1" fmla="val 49700"/>
                <a:gd name="adj2" fmla="val 49923"/>
                <a:gd name="adj3" fmla="val 49700"/>
              </a:avLst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grpSp>
          <p:nvGrpSpPr>
            <p:cNvPr id="225" name=""/>
            <p:cNvGrpSpPr/>
            <p:nvPr/>
          </p:nvGrpSpPr>
          <p:grpSpPr>
            <a:xfrm>
              <a:off x="4564080" y="2970360"/>
              <a:ext cx="826560" cy="280440"/>
              <a:chOff x="4564080" y="2970360"/>
              <a:chExt cx="826560" cy="280440"/>
            </a:xfrm>
          </p:grpSpPr>
          <p:sp>
            <p:nvSpPr>
              <p:cNvPr id="206" name=""/>
              <p:cNvSpPr/>
              <p:nvPr/>
            </p:nvSpPr>
            <p:spPr>
              <a:xfrm>
                <a:off x="4597200" y="2970360"/>
                <a:ext cx="757800" cy="28044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564080" y="2993400"/>
                <a:ext cx="8265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ash Flo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26" name=""/>
            <p:cNvCxnSpPr>
              <a:stCxn id="220" idx="2"/>
              <a:endCxn id="206" idx="0"/>
            </p:cNvCxnSpPr>
            <p:nvPr/>
          </p:nvCxnSpPr>
          <p:spPr>
            <a:xfrm flipH="1" rot="16200000">
              <a:off x="4873320" y="2867760"/>
              <a:ext cx="153360" cy="52920"/>
            </a:xfrm>
            <a:prstGeom prst="curvedConnector5">
              <a:avLst>
                <a:gd name="adj1" fmla="val 49882"/>
                <a:gd name="adj2" fmla="val 50000"/>
                <a:gd name="adj3" fmla="val 49882"/>
              </a:avLst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227" name=""/>
            <p:cNvCxnSpPr>
              <a:stCxn id="218" idx="2"/>
              <a:endCxn id="192" idx="3"/>
            </p:cNvCxnSpPr>
            <p:nvPr/>
          </p:nvCxnSpPr>
          <p:spPr>
            <a:xfrm rot="5400000">
              <a:off x="5220720" y="2425320"/>
              <a:ext cx="246600" cy="2437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grpSp>
          <p:nvGrpSpPr>
            <p:cNvPr id="228" name=""/>
            <p:cNvGrpSpPr/>
            <p:nvPr/>
          </p:nvGrpSpPr>
          <p:grpSpPr>
            <a:xfrm>
              <a:off x="5622840" y="2655720"/>
              <a:ext cx="968040" cy="260280"/>
              <a:chOff x="5622840" y="2655720"/>
              <a:chExt cx="968040" cy="260280"/>
            </a:xfrm>
          </p:grpSpPr>
          <p:sp>
            <p:nvSpPr>
              <p:cNvPr id="229" name=""/>
              <p:cNvSpPr/>
              <p:nvPr/>
            </p:nvSpPr>
            <p:spPr>
              <a:xfrm>
                <a:off x="5644080" y="2655720"/>
                <a:ext cx="919080" cy="260280"/>
              </a:xfrm>
              <a:prstGeom prst="roundRect">
                <a:avLst>
                  <a:gd name="adj" fmla="val 32815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d1d100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622840" y="2665080"/>
                <a:ext cx="968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iscount Rat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5114880" y="1390680"/>
              <a:ext cx="815760" cy="271440"/>
              <a:chOff x="5114880" y="1390680"/>
              <a:chExt cx="815760" cy="271440"/>
            </a:xfrm>
          </p:grpSpPr>
          <p:sp>
            <p:nvSpPr>
              <p:cNvPr id="213" name=""/>
              <p:cNvSpPr/>
              <p:nvPr/>
            </p:nvSpPr>
            <p:spPr>
              <a:xfrm>
                <a:off x="5147640" y="1390680"/>
                <a:ext cx="747720" cy="27144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114880" y="1413000"/>
                <a:ext cx="8157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evenu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5992920" y="1809720"/>
              <a:ext cx="647640" cy="246240"/>
              <a:chOff x="5992920" y="1809720"/>
              <a:chExt cx="647640" cy="246240"/>
            </a:xfrm>
          </p:grpSpPr>
          <p:sp>
            <p:nvSpPr>
              <p:cNvPr id="197" name=""/>
              <p:cNvSpPr/>
              <p:nvPr/>
            </p:nvSpPr>
            <p:spPr>
              <a:xfrm>
                <a:off x="6043680" y="1809720"/>
                <a:ext cx="544680" cy="24624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bdbdbd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992920" y="1820880"/>
                <a:ext cx="647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ax Rat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2563920" y="1022400"/>
              <a:ext cx="1218240" cy="260280"/>
              <a:chOff x="2563920" y="1022400"/>
              <a:chExt cx="1218240" cy="260280"/>
            </a:xfrm>
          </p:grpSpPr>
          <p:sp>
            <p:nvSpPr>
              <p:cNvPr id="234" name=""/>
              <p:cNvSpPr/>
              <p:nvPr/>
            </p:nvSpPr>
            <p:spPr>
              <a:xfrm>
                <a:off x="2590560" y="1022400"/>
                <a:ext cx="1156680" cy="260280"/>
              </a:xfrm>
              <a:prstGeom prst="roundRect">
                <a:avLst>
                  <a:gd name="adj" fmla="val 32815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d1d100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563920" y="1031760"/>
                <a:ext cx="1218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Variable Unit Cost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2801880" y="1949400"/>
              <a:ext cx="873000" cy="260280"/>
              <a:chOff x="2801880" y="1949400"/>
              <a:chExt cx="873000" cy="260280"/>
            </a:xfrm>
          </p:grpSpPr>
          <p:sp>
            <p:nvSpPr>
              <p:cNvPr id="237" name=""/>
              <p:cNvSpPr/>
              <p:nvPr/>
            </p:nvSpPr>
            <p:spPr>
              <a:xfrm>
                <a:off x="2820960" y="1949400"/>
                <a:ext cx="828720" cy="260280"/>
              </a:xfrm>
              <a:prstGeom prst="roundRect">
                <a:avLst>
                  <a:gd name="adj" fmla="val 32815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d1d100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801880" y="1958760"/>
                <a:ext cx="8730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ixed Cost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39" name=""/>
            <p:cNvCxnSpPr>
              <a:stCxn id="238" idx="3"/>
              <a:endCxn id="184" idx="1"/>
            </p:cNvCxnSpPr>
            <p:nvPr/>
          </p:nvCxnSpPr>
          <p:spPr>
            <a:xfrm flipV="1">
              <a:off x="3674880" y="2015280"/>
              <a:ext cx="565560" cy="579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240" name=""/>
            <p:cNvCxnSpPr>
              <a:stCxn id="200" idx="3"/>
              <a:endCxn id="183" idx="0"/>
            </p:cNvCxnSpPr>
            <p:nvPr/>
          </p:nvCxnSpPr>
          <p:spPr>
            <a:xfrm>
              <a:off x="4352760" y="1630440"/>
              <a:ext cx="146880" cy="2498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grpSp>
          <p:nvGrpSpPr>
            <p:cNvPr id="241" name=""/>
            <p:cNvGrpSpPr/>
            <p:nvPr/>
          </p:nvGrpSpPr>
          <p:grpSpPr>
            <a:xfrm>
              <a:off x="3357720" y="1494000"/>
              <a:ext cx="994680" cy="271440"/>
              <a:chOff x="3357720" y="1494000"/>
              <a:chExt cx="994680" cy="271440"/>
            </a:xfrm>
          </p:grpSpPr>
          <p:sp>
            <p:nvSpPr>
              <p:cNvPr id="242" name=""/>
              <p:cNvSpPr/>
              <p:nvPr/>
            </p:nvSpPr>
            <p:spPr>
              <a:xfrm>
                <a:off x="3397680" y="1494000"/>
                <a:ext cx="911880" cy="27144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357720" y="1516320"/>
                <a:ext cx="994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Variable Cost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43" name=""/>
            <p:cNvCxnSpPr>
              <a:stCxn id="235" idx="2"/>
              <a:endCxn id="200" idx="1"/>
            </p:cNvCxnSpPr>
            <p:nvPr/>
          </p:nvCxnSpPr>
          <p:spPr>
            <a:xfrm flipH="1" rot="16200000">
              <a:off x="3080520" y="1352880"/>
              <a:ext cx="370800" cy="1850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grpSp>
          <p:nvGrpSpPr>
            <p:cNvPr id="244" name=""/>
            <p:cNvGrpSpPr/>
            <p:nvPr/>
          </p:nvGrpSpPr>
          <p:grpSpPr>
            <a:xfrm>
              <a:off x="2965320" y="4052880"/>
              <a:ext cx="909360" cy="200520"/>
              <a:chOff x="2965320" y="4052880"/>
              <a:chExt cx="909360" cy="200520"/>
            </a:xfrm>
          </p:grpSpPr>
          <p:sp>
            <p:nvSpPr>
              <p:cNvPr id="245" name=""/>
              <p:cNvSpPr/>
              <p:nvPr/>
            </p:nvSpPr>
            <p:spPr>
              <a:xfrm>
                <a:off x="2965320" y="4076640"/>
                <a:ext cx="279360" cy="15264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198600" y="4052880"/>
                <a:ext cx="676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alculati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3836880" y="4052880"/>
              <a:ext cx="911160" cy="200520"/>
              <a:chOff x="3836880" y="4052880"/>
              <a:chExt cx="911160" cy="200520"/>
            </a:xfrm>
          </p:grpSpPr>
          <p:sp>
            <p:nvSpPr>
              <p:cNvPr id="248" name=""/>
              <p:cNvSpPr/>
              <p:nvPr/>
            </p:nvSpPr>
            <p:spPr>
              <a:xfrm>
                <a:off x="3836880" y="4075200"/>
                <a:ext cx="277560" cy="154080"/>
              </a:xfrm>
              <a:prstGeom prst="roundRect">
                <a:avLst>
                  <a:gd name="adj" fmla="val 32815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d1d1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071600" y="4052880"/>
                <a:ext cx="67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ncertaint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4708440" y="4052880"/>
              <a:ext cx="847800" cy="200520"/>
              <a:chOff x="4708440" y="4052880"/>
              <a:chExt cx="847800" cy="200520"/>
            </a:xfrm>
          </p:grpSpPr>
          <p:sp>
            <p:nvSpPr>
              <p:cNvPr id="251" name=""/>
              <p:cNvSpPr/>
              <p:nvPr/>
            </p:nvSpPr>
            <p:spPr>
              <a:xfrm>
                <a:off x="4708440" y="4073400"/>
                <a:ext cx="265320" cy="1566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bdbdbd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0160" y="4052880"/>
                <a:ext cx="676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ecisi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5518080" y="4062240"/>
              <a:ext cx="825480" cy="200520"/>
              <a:chOff x="5518080" y="4062240"/>
              <a:chExt cx="825480" cy="200520"/>
            </a:xfrm>
          </p:grpSpPr>
          <p:sp>
            <p:nvSpPr>
              <p:cNvPr id="254" name=""/>
              <p:cNvSpPr/>
              <p:nvPr/>
            </p:nvSpPr>
            <p:spPr>
              <a:xfrm>
                <a:off x="5518080" y="4086000"/>
                <a:ext cx="268200" cy="1522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667120" y="4062240"/>
                <a:ext cx="67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riteri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0" y="3427560"/>
            <a:ext cx="4448160" cy="3430440"/>
            <a:chOff x="0" y="3427560"/>
            <a:chExt cx="4448160" cy="3430440"/>
          </a:xfrm>
        </p:grpSpPr>
        <p:sp>
          <p:nvSpPr>
            <p:cNvPr id="257" name=""/>
            <p:cNvSpPr/>
            <p:nvPr/>
          </p:nvSpPr>
          <p:spPr>
            <a:xfrm>
              <a:off x="0" y="3427560"/>
              <a:ext cx="4448160" cy="343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3040" y="3621240"/>
              <a:ext cx="3419280" cy="25905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4880" y="621180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04880" y="577836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4880" y="534528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04880" y="492120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04880" y="448776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4880" y="40543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04880" y="362124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743040" y="621180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1314360" y="621180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1886040" y="621180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2457360" y="621180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3019320" y="621180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3591000" y="621180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4162320" y="621180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314360" y="4727520"/>
              <a:ext cx="285840" cy="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600200" y="4792680"/>
              <a:ext cx="28584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86040" y="4856040"/>
              <a:ext cx="285840" cy="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71880" y="4921200"/>
              <a:ext cx="285480" cy="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457360" y="4986360"/>
              <a:ext cx="27648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33840" y="5041800"/>
              <a:ext cx="285480" cy="5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019320" y="5095800"/>
              <a:ext cx="285840" cy="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05160" y="5151600"/>
              <a:ext cx="285840" cy="4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1314360" y="5880240"/>
              <a:ext cx="28584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1600200" y="5576400"/>
              <a:ext cx="285840" cy="30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1886040" y="5281560"/>
              <a:ext cx="28584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2171880" y="4986360"/>
              <a:ext cx="28548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2457360" y="4691160"/>
              <a:ext cx="27648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2733840" y="4385880"/>
              <a:ext cx="2854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3019320" y="4091040"/>
              <a:ext cx="28584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305160" y="3795840"/>
              <a:ext cx="28584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1314360" y="5613480"/>
              <a:ext cx="28584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600200" y="5400360"/>
              <a:ext cx="28584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886040" y="5189040"/>
              <a:ext cx="285840" cy="21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2171880" y="4986360"/>
              <a:ext cx="2854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2457360" y="4773240"/>
              <a:ext cx="27648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2733840" y="4570560"/>
              <a:ext cx="2854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3019320" y="4358880"/>
              <a:ext cx="285840" cy="21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3305160" y="4146120"/>
              <a:ext cx="28584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314360" y="4802040"/>
              <a:ext cx="2858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00200" y="4848120"/>
              <a:ext cx="2858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886040" y="4894200"/>
              <a:ext cx="2858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71880" y="4940280"/>
              <a:ext cx="28548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457360" y="4986360"/>
              <a:ext cx="27648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33840" y="5032440"/>
              <a:ext cx="28548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019320" y="5078520"/>
              <a:ext cx="2858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05160" y="5124600"/>
              <a:ext cx="285840" cy="4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314360" y="4626000"/>
              <a:ext cx="28584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00200" y="4718160"/>
              <a:ext cx="285840" cy="8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886040" y="4802040"/>
              <a:ext cx="28584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71880" y="4894200"/>
              <a:ext cx="28548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57360" y="4986360"/>
              <a:ext cx="27648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733840" y="5078520"/>
              <a:ext cx="28548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19320" y="5160960"/>
              <a:ext cx="28584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305160" y="5253120"/>
              <a:ext cx="28584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314360" y="4718160"/>
              <a:ext cx="285840" cy="6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00200" y="4782960"/>
              <a:ext cx="285840" cy="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86040" y="4848120"/>
              <a:ext cx="28584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171880" y="4921200"/>
              <a:ext cx="285480" cy="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57360" y="4986360"/>
              <a:ext cx="276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33840" y="5049720"/>
              <a:ext cx="285480" cy="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019320" y="5114880"/>
              <a:ext cx="28584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05160" y="5189400"/>
              <a:ext cx="28584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95280" y="4708440"/>
              <a:ext cx="38160" cy="38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1120" y="4773600"/>
              <a:ext cx="38160" cy="36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66960" y="4838760"/>
              <a:ext cx="38160" cy="36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52800" y="4902120"/>
              <a:ext cx="37800" cy="38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438280" y="4967280"/>
              <a:ext cx="38160" cy="36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714760" y="5022720"/>
              <a:ext cx="37800" cy="36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000240" y="5078520"/>
              <a:ext cx="38160" cy="36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86080" y="5133960"/>
              <a:ext cx="38160" cy="36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71920" y="5180040"/>
              <a:ext cx="38160" cy="36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276200" y="6138720"/>
              <a:ext cx="9540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1285560" y="6148080"/>
              <a:ext cx="28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314360" y="6175440"/>
              <a:ext cx="2880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1285560" y="6175440"/>
              <a:ext cx="28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1314360" y="6148080"/>
              <a:ext cx="28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62040" y="5843520"/>
              <a:ext cx="9540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 flipV="1">
              <a:off x="1571400" y="5852880"/>
              <a:ext cx="28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600200" y="5880240"/>
              <a:ext cx="28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1571400" y="5880240"/>
              <a:ext cx="28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1600200" y="5852880"/>
              <a:ext cx="28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847880" y="5538960"/>
              <a:ext cx="95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flipV="1">
              <a:off x="1857240" y="5547960"/>
              <a:ext cx="2880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886040" y="5576760"/>
              <a:ext cx="28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1857240" y="5576760"/>
              <a:ext cx="28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1886040" y="5547960"/>
              <a:ext cx="28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5243400"/>
              <a:ext cx="9504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 flipV="1">
              <a:off x="2143080" y="5252760"/>
              <a:ext cx="2880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71880" y="5281560"/>
              <a:ext cx="28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2143080" y="5281560"/>
              <a:ext cx="28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2171880" y="5252760"/>
              <a:ext cx="28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419200" y="4950000"/>
              <a:ext cx="95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 flipV="1">
              <a:off x="2428560" y="4957560"/>
              <a:ext cx="28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457360" y="4986360"/>
              <a:ext cx="28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2428560" y="4986360"/>
              <a:ext cx="28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2457360" y="4957560"/>
              <a:ext cx="2880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695680" y="4654440"/>
              <a:ext cx="9504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flipV="1">
              <a:off x="2705040" y="4662360"/>
              <a:ext cx="2880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733840" y="4691160"/>
              <a:ext cx="28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2705040" y="4691160"/>
              <a:ext cx="28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2733840" y="4662360"/>
              <a:ext cx="2844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981160" y="4349880"/>
              <a:ext cx="95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flipV="1">
              <a:off x="2990520" y="4358880"/>
              <a:ext cx="28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19320" y="4386240"/>
              <a:ext cx="2880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2990520" y="4386240"/>
              <a:ext cx="28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3019320" y="4358880"/>
              <a:ext cx="28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267000" y="4054320"/>
              <a:ext cx="9540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 flipV="1">
              <a:off x="3276360" y="4063680"/>
              <a:ext cx="28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05160" y="4091040"/>
              <a:ext cx="28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3276360" y="4091040"/>
              <a:ext cx="28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305160" y="4063680"/>
              <a:ext cx="28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552840" y="3759120"/>
              <a:ext cx="9540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3562200" y="3768480"/>
              <a:ext cx="28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591000" y="3795840"/>
              <a:ext cx="28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3562200" y="3795840"/>
              <a:ext cx="2880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3591000" y="3768480"/>
              <a:ext cx="28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295280" y="5797440"/>
              <a:ext cx="381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581120" y="5594400"/>
              <a:ext cx="381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866960" y="5383080"/>
              <a:ext cx="381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152800" y="5170320"/>
              <a:ext cx="3780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438280" y="4967280"/>
              <a:ext cx="381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14760" y="4756320"/>
              <a:ext cx="3780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000240" y="4552920"/>
              <a:ext cx="381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86080" y="4340160"/>
              <a:ext cx="381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571920" y="4127400"/>
              <a:ext cx="3816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314360" y="4792680"/>
              <a:ext cx="38160" cy="17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600200" y="4838760"/>
              <a:ext cx="38160" cy="17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886040" y="4884840"/>
              <a:ext cx="38160" cy="17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171880" y="4930920"/>
              <a:ext cx="37800" cy="19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457360" y="4976640"/>
              <a:ext cx="38160" cy="19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33840" y="5022720"/>
              <a:ext cx="37800" cy="19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19320" y="5068800"/>
              <a:ext cx="38160" cy="19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305160" y="5114880"/>
              <a:ext cx="38160" cy="19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91000" y="5160960"/>
              <a:ext cx="38160" cy="19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295280" y="4608360"/>
              <a:ext cx="38160" cy="3672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12"/>
                  </a:lnTo>
                  <a:lnTo>
                    <a:pt x="12" y="24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581120" y="4700520"/>
              <a:ext cx="38160" cy="3672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12"/>
                  </a:lnTo>
                  <a:lnTo>
                    <a:pt x="12" y="24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66960" y="4782960"/>
              <a:ext cx="38160" cy="3672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12"/>
                  </a:lnTo>
                  <a:lnTo>
                    <a:pt x="12" y="24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152800" y="4875120"/>
              <a:ext cx="37800" cy="3672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12"/>
                  </a:lnTo>
                  <a:lnTo>
                    <a:pt x="12" y="24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438280" y="4967280"/>
              <a:ext cx="3816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12"/>
                  </a:lnTo>
                  <a:lnTo>
                    <a:pt x="12" y="24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714760" y="5059440"/>
              <a:ext cx="378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12"/>
                  </a:lnTo>
                  <a:lnTo>
                    <a:pt x="12" y="24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00240" y="5143680"/>
              <a:ext cx="3816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12"/>
                  </a:lnTo>
                  <a:lnTo>
                    <a:pt x="12" y="24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86080" y="5235480"/>
              <a:ext cx="38160" cy="3672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12"/>
                  </a:lnTo>
                  <a:lnTo>
                    <a:pt x="12" y="24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71920" y="5327640"/>
              <a:ext cx="3816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12"/>
                  </a:lnTo>
                  <a:lnTo>
                    <a:pt x="12" y="24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95280" y="4700520"/>
              <a:ext cx="38160" cy="3672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24"/>
                  </a:lnTo>
                  <a:lnTo>
                    <a:pt x="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581120" y="476424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24"/>
                  </a:lnTo>
                  <a:lnTo>
                    <a:pt x="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866960" y="4829040"/>
              <a:ext cx="38160" cy="3672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24"/>
                  </a:lnTo>
                  <a:lnTo>
                    <a:pt x="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52800" y="490212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24"/>
                  </a:lnTo>
                  <a:lnTo>
                    <a:pt x="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38280" y="4967280"/>
              <a:ext cx="3816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24"/>
                  </a:lnTo>
                  <a:lnTo>
                    <a:pt x="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714760" y="5032440"/>
              <a:ext cx="378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24"/>
                  </a:lnTo>
                  <a:lnTo>
                    <a:pt x="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00240" y="50958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24"/>
                  </a:lnTo>
                  <a:lnTo>
                    <a:pt x="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286080" y="5170320"/>
              <a:ext cx="38160" cy="3672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24"/>
                  </a:lnTo>
                  <a:lnTo>
                    <a:pt x="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571920" y="5235480"/>
              <a:ext cx="38160" cy="3672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24"/>
                  </a:lnTo>
                  <a:lnTo>
                    <a:pt x="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80680" y="6138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47120" y="57056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80160" y="52722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0160" y="48481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0160" y="44146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80160" y="39816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80160" y="35481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99760" y="6313320"/>
              <a:ext cx="29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6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171080" y="6313320"/>
              <a:ext cx="29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4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742760" y="6313320"/>
              <a:ext cx="29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371320" y="63133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894760" y="63133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466440" y="63133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37760" y="63133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75440" y="6526080"/>
              <a:ext cx="156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% Change from base c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42840" y="4823640"/>
              <a:ext cx="39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PV, 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038400" y="5521320"/>
              <a:ext cx="257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143160" y="5502240"/>
              <a:ext cx="38160" cy="36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323880" y="5456160"/>
              <a:ext cx="642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unt Ra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038400" y="5640480"/>
              <a:ext cx="257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124080" y="5603760"/>
              <a:ext cx="9540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 flipV="1">
              <a:off x="3133440" y="5613120"/>
              <a:ext cx="28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162240" y="5640480"/>
              <a:ext cx="2880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3133440" y="5640480"/>
              <a:ext cx="28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3162240" y="5613120"/>
              <a:ext cx="28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323160" y="5576760"/>
              <a:ext cx="23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038400" y="5770440"/>
              <a:ext cx="2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143160" y="5751360"/>
              <a:ext cx="381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323880" y="5705640"/>
              <a:ext cx="34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038400" y="5889600"/>
              <a:ext cx="257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162240" y="5880240"/>
              <a:ext cx="38160" cy="19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322440" y="5824440"/>
              <a:ext cx="541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xed Cos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038400" y="6018120"/>
              <a:ext cx="257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143160" y="6000840"/>
              <a:ext cx="3816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12"/>
                  </a:lnTo>
                  <a:lnTo>
                    <a:pt x="12" y="24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323520" y="5954760"/>
              <a:ext cx="665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ariable Cos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038400" y="6138720"/>
              <a:ext cx="257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143160" y="61196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24"/>
                  </a:lnTo>
                  <a:lnTo>
                    <a:pt x="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324240" y="6073920"/>
              <a:ext cx="31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0" y="3427560"/>
              <a:ext cx="4448160" cy="3430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"/>
          <p:cNvGrpSpPr/>
          <p:nvPr/>
        </p:nvGrpSpPr>
        <p:grpSpPr>
          <a:xfrm>
            <a:off x="0" y="246240"/>
            <a:ext cx="3533760" cy="3240000"/>
            <a:chOff x="0" y="246240"/>
            <a:chExt cx="3533760" cy="3240000"/>
          </a:xfrm>
        </p:grpSpPr>
        <p:sp>
          <p:nvSpPr>
            <p:cNvPr id="451" name=""/>
            <p:cNvSpPr/>
            <p:nvPr/>
          </p:nvSpPr>
          <p:spPr>
            <a:xfrm>
              <a:off x="0" y="246240"/>
              <a:ext cx="3533760" cy="32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25480" y="1106640"/>
              <a:ext cx="130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31960" y="1109520"/>
              <a:ext cx="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1084320" y="110952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1339920" y="110952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1596600" y="110952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1852200" y="110952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2107800" y="110952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958680" y="1109520"/>
              <a:ext cx="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1212840" y="110952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469880" y="1109520"/>
              <a:ext cx="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727280" y="1109520"/>
              <a:ext cx="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1979640" y="110952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5400000">
              <a:off x="684720" y="848880"/>
              <a:ext cx="254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5400000">
              <a:off x="937800" y="848880"/>
              <a:ext cx="254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5400000">
              <a:off x="1147320" y="806040"/>
              <a:ext cx="33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2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5400000">
              <a:off x="1399320" y="806040"/>
              <a:ext cx="33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6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5400000">
              <a:off x="1651680" y="806040"/>
              <a:ext cx="33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5400000">
              <a:off x="1906200" y="806040"/>
              <a:ext cx="33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4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382760" y="48276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5400000">
              <a:off x="1407240" y="2259720"/>
              <a:ext cx="187200" cy="201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5400000">
              <a:off x="1387800" y="1278720"/>
              <a:ext cx="187200" cy="6174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5400000">
              <a:off x="1389240" y="890640"/>
              <a:ext cx="188640" cy="88416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5400000">
              <a:off x="1387800" y="2550240"/>
              <a:ext cx="187560" cy="1350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5400000">
              <a:off x="1387800" y="1711800"/>
              <a:ext cx="187200" cy="26532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5400000">
              <a:off x="1387800" y="2004120"/>
              <a:ext cx="187200" cy="198360"/>
            </a:xfrm>
            <a:prstGeom prst="rect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50075"/>
                </a:gs>
              </a:gsLst>
              <a:path path="rect">
                <a:fillToRect l="50000" t="50000" r="50000" b="50000"/>
              </a:path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325960" y="2381400"/>
              <a:ext cx="72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iscount Ra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327760" y="1600200"/>
              <a:ext cx="38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Volum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327760" y="134136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326320" y="2641680"/>
              <a:ext cx="60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ixed Cos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325600" y="1860480"/>
              <a:ext cx="95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Variable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Unit  Cos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326680" y="212076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vestm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1480680" y="1106640"/>
              <a:ext cx="1800" cy="1752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149480" y="28591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ase Cas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"/>
          <p:cNvGrpSpPr/>
          <p:nvPr/>
        </p:nvGrpSpPr>
        <p:grpSpPr>
          <a:xfrm>
            <a:off x="4110120" y="1011240"/>
            <a:ext cx="3533760" cy="3240000"/>
            <a:chOff x="4110120" y="1011240"/>
            <a:chExt cx="3533760" cy="3240000"/>
          </a:xfrm>
        </p:grpSpPr>
        <p:sp>
          <p:nvSpPr>
            <p:cNvPr id="486" name=""/>
            <p:cNvSpPr/>
            <p:nvPr/>
          </p:nvSpPr>
          <p:spPr>
            <a:xfrm>
              <a:off x="4110120" y="1011240"/>
              <a:ext cx="3533760" cy="32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82080" y="2055960"/>
              <a:ext cx="72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iscount Ra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383880" y="2827440"/>
              <a:ext cx="38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Volum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383880" y="30844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382440" y="1800360"/>
              <a:ext cx="60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ixed Cos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81720" y="2570040"/>
              <a:ext cx="95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Variable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Unit  Cos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82800" y="231300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vestm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4959000" y="3422520"/>
              <a:ext cx="130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6257880" y="3384360"/>
              <a:ext cx="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6002280" y="338436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5746680" y="338436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489640" y="338436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5234040" y="338436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4978440" y="338436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6130800" y="3384360"/>
              <a:ext cx="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5873760" y="338436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5619600" y="3384360"/>
              <a:ext cx="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5362560" y="3384360"/>
              <a:ext cx="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5106960" y="338436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16200000">
              <a:off x="6161400" y="3539160"/>
              <a:ext cx="25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16200000">
              <a:off x="5909040" y="3539160"/>
              <a:ext cx="25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16200000">
              <a:off x="5613840" y="3582000"/>
              <a:ext cx="3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2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16200000">
              <a:off x="5361480" y="3582000"/>
              <a:ext cx="3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6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16200000">
              <a:off x="5109120" y="3582000"/>
              <a:ext cx="3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16200000">
              <a:off x="4854960" y="3582000"/>
              <a:ext cx="3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4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446800" y="382752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16200000">
              <a:off x="5505480" y="2077920"/>
              <a:ext cx="187200" cy="174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16200000">
              <a:off x="5509080" y="2629080"/>
              <a:ext cx="187560" cy="61776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16200000">
              <a:off x="5509440" y="2753640"/>
              <a:ext cx="187200" cy="88416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16200000">
              <a:off x="5509440" y="1840320"/>
              <a:ext cx="187560" cy="1350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6200000">
              <a:off x="5509440" y="2548800"/>
              <a:ext cx="187200" cy="26496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16200000">
              <a:off x="5509440" y="2323080"/>
              <a:ext cx="187200" cy="19836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5605560" y="1670040"/>
              <a:ext cx="1440" cy="1752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254560" y="13050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ase Cas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4006800" y="2108160"/>
            <a:ext cx="3314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006800" y="2108160"/>
            <a:ext cx="1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006800" y="2108160"/>
            <a:ext cx="331488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006800" y="2108160"/>
            <a:ext cx="1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006800" y="2108160"/>
            <a:ext cx="331488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1523880" y="1889280"/>
            <a:ext cx="4564080" cy="4082760"/>
            <a:chOff x="1523880" y="1889280"/>
            <a:chExt cx="4564080" cy="4082760"/>
          </a:xfrm>
        </p:grpSpPr>
        <p:sp>
          <p:nvSpPr>
            <p:cNvPr id="526" name=""/>
            <p:cNvSpPr/>
            <p:nvPr/>
          </p:nvSpPr>
          <p:spPr>
            <a:xfrm>
              <a:off x="2041200" y="2876760"/>
              <a:ext cx="9720" cy="187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0"/>
                  </a:moveTo>
                  <a:lnTo>
                    <a:pt x="6" y="0"/>
                  </a:ln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879280" y="401976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12" y="0"/>
                  </a:moveTo>
                  <a:lnTo>
                    <a:pt x="24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384280" y="533412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6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6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384280" y="5343480"/>
              <a:ext cx="28440" cy="972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6" y="0"/>
                  </a:moveTo>
                  <a:lnTo>
                    <a:pt x="18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212640" y="5343480"/>
              <a:ext cx="28800" cy="972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6" y="0"/>
                  </a:moveTo>
                  <a:lnTo>
                    <a:pt x="18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523880" y="1889280"/>
              <a:ext cx="4564080" cy="4082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401560" y="2135160"/>
              <a:ext cx="3303720" cy="31510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70960" y="5369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333240" y="5369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285440" y="53690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275800" y="53690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406240" y="4699080"/>
              <a:ext cx="820800" cy="58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403360" y="4140360"/>
              <a:ext cx="1677960" cy="114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406240" y="3611520"/>
              <a:ext cx="2509920" cy="166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403360" y="3040200"/>
              <a:ext cx="3301920" cy="225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404800" y="2475000"/>
              <a:ext cx="3301920" cy="225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706480" y="2133720"/>
              <a:ext cx="2995560" cy="20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506400" y="2133720"/>
              <a:ext cx="2195640" cy="145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331880" y="2138400"/>
              <a:ext cx="137016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189400" y="2139840"/>
              <a:ext cx="512640" cy="38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212200" y="5186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12200" y="4691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134440" y="41958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134440" y="3700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134440" y="32050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134440" y="27003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134440" y="2205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263760" y="5578560"/>
              <a:ext cx="1471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pital Cost (US c/lb p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16200000">
              <a:off x="1148400" y="3753360"/>
              <a:ext cx="1465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perating Cost (US c/lb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658760" y="2157480"/>
              <a:ext cx="43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358880" y="2462400"/>
              <a:ext cx="46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031640" y="2760840"/>
              <a:ext cx="43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758760" y="3127320"/>
              <a:ext cx="36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441240" y="349884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050640" y="38275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66520" y="412596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349000" y="448488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35280" y="3921120"/>
              <a:ext cx="447480" cy="371520"/>
            </a:xfrm>
            <a:prstGeom prst="roundRect">
              <a:avLst>
                <a:gd name="adj" fmla="val 20514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754080" y="3497400"/>
              <a:ext cx="447840" cy="371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346280" y="4380120"/>
              <a:ext cx="96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yrom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296880" y="3935520"/>
              <a:ext cx="113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ydrom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4438800" y="557280"/>
            <a:ext cx="440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1271520" y="1174680"/>
            <a:ext cx="6970680" cy="3465720"/>
            <a:chOff x="1271520" y="1174680"/>
            <a:chExt cx="6970680" cy="3465720"/>
          </a:xfrm>
        </p:grpSpPr>
        <p:sp>
          <p:nvSpPr>
            <p:cNvPr id="569" name=""/>
            <p:cNvSpPr/>
            <p:nvPr/>
          </p:nvSpPr>
          <p:spPr>
            <a:xfrm>
              <a:off x="1271520" y="1174680"/>
              <a:ext cx="6958080" cy="3465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848120" y="3328920"/>
              <a:ext cx="3394080" cy="10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actor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ether to drill appraisal well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elop reservoi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thods of appraisa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thods of processin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854600" y="2751120"/>
              <a:ext cx="3132000" cy="4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5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gree to term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15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 deal and drill exploration wel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619280" y="1371600"/>
              <a:ext cx="3009960" cy="2927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057400" y="3421080"/>
              <a:ext cx="213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525760" y="2543040"/>
              <a:ext cx="118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324160" y="205416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lic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324160" y="293220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rateg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324160" y="381168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acti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842000" y="1938240"/>
              <a:ext cx="3260520" cy="4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5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PV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s the measure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106880" y="1814400"/>
              <a:ext cx="585720" cy="560520"/>
            </a:xfrm>
            <a:prstGeom prst="rightArrow">
              <a:avLst>
                <a:gd name="adj1" fmla="val 50139"/>
                <a:gd name="adj2" fmla="val 47860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9ab2c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106880" y="2719440"/>
              <a:ext cx="585720" cy="560160"/>
            </a:xfrm>
            <a:prstGeom prst="rightArrow">
              <a:avLst>
                <a:gd name="adj1" fmla="val 50139"/>
                <a:gd name="adj2" fmla="val 47890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9ab2c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06880" y="3576600"/>
              <a:ext cx="585720" cy="560520"/>
            </a:xfrm>
            <a:prstGeom prst="rightArrow">
              <a:avLst>
                <a:gd name="adj1" fmla="val 50139"/>
                <a:gd name="adj2" fmla="val 47860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9ab2c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0T07:05:18Z</dcterms:created>
  <dc:creator>Frank</dc:creator>
  <dc:description/>
  <dc:language>en-US</dc:language>
  <cp:lastModifiedBy>frank crundwell</cp:lastModifiedBy>
  <dcterms:modified xsi:type="dcterms:W3CDTF">2007-08-16T16:51:10Z</dcterms:modified>
  <cp:revision>18</cp:revision>
  <dc:subject/>
  <dc:title>PowerPoint Presentation</dc:title>
</cp:coreProperties>
</file>